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5DAD3-67FF-4045-8DD9-50EE1BEFF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F1284-1C3A-401D-93AD-A9997478A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F269A-22AD-4DC8-8408-75B72EE99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8FF5-9AF1-4488-9141-C0075FFA8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C4B86E-CCB9-4165-80C6-16EB8FF19E8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E6DEC8-F30F-43C9-9DAF-28E79602C1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B10268-0FC5-40E5-8A8D-AD6C769932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E204C3-E765-44F3-A8CC-D953651EA8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D3E46D-9C74-44FC-B10F-CCC41DA9F6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7E8212-C792-4020-A746-3A64B361EE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A7E30-EF57-407D-978A-789EBD4A84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77F55-7135-4F1A-A380-8FD11334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255A30-928D-4016-B539-E5DB2CA6D9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51035-22FD-494A-8661-56E94B35CA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275E3A-2AD0-427F-938E-20291B8D61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9676B-FC27-4509-BDE5-1885D96436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3F0579-081B-4338-8AFE-9B42ECEFC7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0B519-21A3-42A8-9CCA-7B7DE14E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D8689-76A4-4501-AB24-6A0C7F112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18A29-C36C-40E4-B0A1-FE6EBE5E9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1BEF-C2EF-4468-BE8C-5571F62D9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EE08-08BF-410F-A86B-89A48FBA2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2E622-3E96-4DD5-8E23-54D9899F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0F81-FF05-46C3-9C3E-34C492631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9C73-7C63-40D7-B0D1-AFC966705349}"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8F5B-10B9-44B5-A525-3CF6F6BB5E06}"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53" TargetMode="External"/><Relationship Id="rId3" Type="http://schemas.openxmlformats.org/officeDocument/2006/relationships/hyperlink" Target="file:///G:/emam%20hosein/footnt01.htm#link54" TargetMode="External"/><Relationship Id="rId4" Type="http://schemas.openxmlformats.org/officeDocument/2006/relationships/hyperlink" Target="file:///G:/emam%20hosein/footnt01.htm#link57"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88"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893520"/>
            <a:ext cx="8243640" cy="5153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مام حسين و عاشورا از ديــدگــاه اهــل سنـت</a:t>
            </a:r>
            <a:endParaRPr b="0" lang="en-US" sz="40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ستاد راهنما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ناب آقای دکتر حسن مجتو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تاریخ تحلیلی صدر اسلام</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مع آوری مطالب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هدی فولادی کشکوئ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بهار </a:t>
            </a:r>
            <a:r>
              <a:rPr b="1" lang="fa-IR" sz="1800" spc="-1" strike="noStrike">
                <a:solidFill>
                  <a:srgbClr val="ffffff"/>
                </a:solidFill>
                <a:latin typeface="Tahoma"/>
              </a:rPr>
              <a:t>86</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980640"/>
            <a:ext cx="8352000" cy="482436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 ايـن روايـت , كـه در مـنـابـع حديث از طرق مختلف نقل شده است و مورد اتفاق شيعه و سنى اسـت ,به دست مى آيد كه امام حسين (ع ) يكى از مصاديق آيه تطهير است از روايات و قراين بسيار مـى توان ثابت كرد كه در زمان نزول آيه تطهير, جز همين پنج تن كس ديگرى مشمول آيه تطهير نـبـوده اسـت و ازهمين روى ايشان را ((اصحاب كسا)) و امام حسين (ع ) را خامس اصحاب كسا, يعنى پنجمين شخصيت اصحاب كسا نام نهاده اند.</a:t>
            </a:r>
            <a:br>
              <a:rPr sz="2800"/>
            </a:br>
            <a:r>
              <a:rPr b="1" lang="fa-IR" sz="2800" spc="-1" strike="noStrike">
                <a:solidFill>
                  <a:srgbClr val="ffffff"/>
                </a:solidFill>
                <a:latin typeface="Tahoma"/>
              </a:rPr>
              <a:t>احمد حنبل و ترمذى , دو تن از محدثان بزرگ اهل سنت , در كتب ((مسند)) و ((سنن )) خود نقل كرده اندكه تا شش ماه پس از نزول آيه مذكور, پيامبر اكرم (ص ) هر روز هنگامى كه براى نماز صبح بـه مـسـجدمى رفتند در جلوى خانه على و فاطمه مى ايستادند و بلند مى فرمودند: الصلوة يا اهل بيت محمد, انمايريد اللّه ليذهب عنكم الرجس اهل البيت و يطهركم تطهير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592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مباهل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1" name="PlaceHolder 2"/>
          <p:cNvSpPr>
            <a:spLocks noGrp="1"/>
          </p:cNvSpPr>
          <p:nvPr>
            <p:ph/>
          </p:nvPr>
        </p:nvSpPr>
        <p:spPr>
          <a:xfrm>
            <a:off x="0" y="907920"/>
            <a:ext cx="9144000" cy="4114800"/>
          </a:xfrm>
          <a:prstGeom prst="rect">
            <a:avLst/>
          </a:prstGeom>
          <a:noFill/>
          <a:ln w="0">
            <a:noFill/>
          </a:ln>
        </p:spPr>
        <p:txBody>
          <a:bodyPr lIns="90000" rIns="90000" tIns="46800" bIns="46800" anchor="t">
            <a:normAutofit fontScale="71000"/>
          </a:bodyPr>
          <a:p>
            <a:pPr marL="243360" indent="-2433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بـيـن دانـشـمـنـدان اسـلامـى , از شيعه و سنى , اتفاق نظر است كه پيامبر در هنگام مباهله با عـالـمـان مـسـيـحـى بحران , تنها على , فاطمه , حسن و حسين را به همراه برد و آنان را مصداق ((ابنائنا)) و ((نسائنا)) و((انفسنا)) در آيه شريفه قرار داد اين مطلب آن چنان مشهور و مسلم است كه عالم بزرگ اهل سنت , حاكم نيشابورى , در كتاب ((معرفة علوم الحديث )) خود اين جريان را از مصاديق روايات متواتر مى شمارد ((</a:t>
            </a:r>
            <a:r>
              <a:rPr b="1" lang="fa-IR" sz="2800" spc="-1" strike="noStrike">
                <a:solidFill>
                  <a:srgbClr val="ffffff"/>
                </a:solidFill>
                <a:latin typeface="Tahoma"/>
              </a:rPr>
              <a:t>30</a:t>
            </a:r>
            <a:r>
              <a:rPr b="1" lang="fa-IR" sz="2800" spc="-1" strike="noStrike">
                <a:solidFill>
                  <a:srgbClr val="ffffff"/>
                </a:solidFill>
                <a:latin typeface="Tahoma"/>
              </a:rPr>
              <a:t>)).</a:t>
            </a:r>
            <a:br>
              <a:rPr sz="2800"/>
            </a:br>
            <a:r>
              <a:rPr b="1" lang="fa-IR" sz="2800" spc="-1" strike="noStrike">
                <a:solidFill>
                  <a:srgbClr val="ffffff"/>
                </a:solidFill>
                <a:latin typeface="Tahoma"/>
              </a:rPr>
              <a:t>مـاجـرا از ايـن قـرار است كه اسقف مسيحيان نجران همراه با گروهى از علماى مسيحى خدمت رسـول خـدا شـرفياب شدند حضرت دين اسلام را بر آنها عرضه كرد ولى سرباز زدند و نپذيرفتند سـرانجام وحى نازل شد و آنان را به مباهله با پيامبر دعوت كرد: فمن حاجك فيه من بعد ما جائك من العلم فقل تعالوا ندع ابنائنا و ابنائكم و نسائنا و نسائكم و انفسنا و انفسكم ثم نبتهل فنجعل لعنة اللّه عـلى الكاذبين (آل عمران / </a:t>
            </a:r>
            <a:r>
              <a:rPr b="1" lang="fa-IR" sz="2800" spc="-1" strike="noStrike">
                <a:solidFill>
                  <a:srgbClr val="ffffff"/>
                </a:solidFill>
                <a:latin typeface="Tahoma"/>
              </a:rPr>
              <a:t>16</a:t>
            </a:r>
            <a:r>
              <a:rPr b="1" lang="fa-IR" sz="2800" spc="-1" strike="noStrike">
                <a:solidFill>
                  <a:srgbClr val="ffffff"/>
                </a:solidFill>
                <a:latin typeface="Tahoma"/>
              </a:rPr>
              <a:t>)در روز موعود, رسول خدا دست اهل خويش را گرفت و براى مباهله حضور يافت مسيحيان كه دريافتندپيامبر با تمام سرمايه خويش به ميدان مباهله آمده است از اين كار تن زنند و به پرداختن جزيه رضايت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ارث علم پيامبر</a:t>
            </a:r>
            <a:endParaRPr b="0" lang="en-US" sz="4400" spc="-1" strike="noStrike">
              <a:solidFill>
                <a:srgbClr val="ffffff"/>
              </a:solidFill>
              <a:latin typeface="Tahoma"/>
            </a:endParaRPr>
          </a:p>
        </p:txBody>
      </p:sp>
      <p:sp>
        <p:nvSpPr>
          <p:cNvPr id="103" name="PlaceHolder 2"/>
          <p:cNvSpPr>
            <a:spLocks noGrp="1"/>
          </p:cNvSpPr>
          <p:nvPr>
            <p:ph/>
          </p:nvPr>
        </p:nvSpPr>
        <p:spPr>
          <a:xfrm>
            <a:off x="539640" y="1619280"/>
            <a:ext cx="8229600" cy="4114800"/>
          </a:xfrm>
          <a:prstGeom prst="rect">
            <a:avLst/>
          </a:prstGeom>
          <a:noFill/>
          <a:ln w="0">
            <a:noFill/>
          </a:ln>
        </p:spPr>
        <p:txBody>
          <a:bodyPr lIns="90000" rIns="90000" tIns="46800" bIns="46800" anchor="t">
            <a:normAutofit fontScale="75000"/>
          </a:bodyPr>
          <a:p>
            <a:pPr marL="257040" indent="-25704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عـكـرمـه , شـاگـرد بـرجسته ابن عباس , نقل مى كند كه روزى ابن عباس در مسجد براى مردم حديث مى گفت كه نافع بن ازرق برخاست و گفت : اى ابن عباس ! از احكام مورچه و پشه براى من مـردم فتوامى دهى ؟ </a:t>
            </a:r>
            <a:br>
              <a:rPr sz="1800"/>
            </a:br>
            <a:r>
              <a:rPr b="1" lang="fa-IR" sz="1800" spc="-1" strike="noStrike">
                <a:solidFill>
                  <a:srgbClr val="ffffff"/>
                </a:solidFill>
                <a:latin typeface="Tahoma"/>
              </a:rPr>
              <a:t>اگر علمى دارى خدايى را كه مى پرستى براى من توصيف كن ابن عباس سر بزير انداخت حسين به على در گوشه مسجد نشسته بود, رو به نافع كرد و فرمود: اى نافع به سوى من بيا تا پاسخت رابازگويم .</a:t>
            </a:r>
            <a:br>
              <a:rPr sz="1800"/>
            </a:br>
            <a:r>
              <a:rPr b="1" lang="fa-IR" sz="1800" spc="-1" strike="noStrike">
                <a:solidFill>
                  <a:srgbClr val="ffffff"/>
                </a:solidFill>
                <a:latin typeface="Tahoma"/>
              </a:rPr>
              <a:t>نافع گفت : من از تو پرسيدم ؟ .</a:t>
            </a:r>
            <a:br>
              <a:rPr sz="1800"/>
            </a:br>
            <a:r>
              <a:rPr b="1" lang="fa-IR" sz="1800" spc="-1" strike="noStrike">
                <a:solidFill>
                  <a:srgbClr val="ffffff"/>
                </a:solidFill>
                <a:latin typeface="Tahoma"/>
              </a:rPr>
              <a:t>ابن عباس گفت : يا ابن الازرق ! انه من اهل بيت النبوة و هم ورثة العلم .</a:t>
            </a:r>
            <a:br>
              <a:rPr sz="1800"/>
            </a:br>
            <a:r>
              <a:rPr b="1" lang="fa-IR" sz="1800" spc="-1" strike="noStrike">
                <a:solidFill>
                  <a:srgbClr val="ffffff"/>
                </a:solidFill>
                <a:latin typeface="Tahoma"/>
              </a:rPr>
              <a:t>نافع به سوى امام رفت و حضرت پاسخ او را ارايه فرمود.</a:t>
            </a:r>
            <a:br>
              <a:rPr sz="1800"/>
            </a:br>
            <a:r>
              <a:rPr b="1" lang="fa-IR" sz="1800" spc="-1" strike="noStrike">
                <a:solidFill>
                  <a:srgbClr val="ffffff"/>
                </a:solidFill>
                <a:latin typeface="Tahoma"/>
              </a:rPr>
              <a:t>نافع گفت : اى حسين ! سخنانت نيكو و پرمايه است .</a:t>
            </a:r>
            <a:br>
              <a:rPr sz="1800"/>
            </a:br>
            <a:r>
              <a:rPr b="1" lang="fa-IR" sz="1800" spc="-1" strike="noStrike">
                <a:solidFill>
                  <a:srgbClr val="ffffff"/>
                </a:solidFill>
                <a:latin typeface="Tahoma"/>
              </a:rPr>
              <a:t>فرمود: شنيده ام كه تو پدرم و برادرم و مرا به كفر متهم كرده اى ؟ .</a:t>
            </a:r>
            <a:br>
              <a:rPr sz="1800"/>
            </a:br>
            <a:r>
              <a:rPr b="1" lang="fa-IR" sz="1800" spc="-1" strike="noStrike">
                <a:solidFill>
                  <a:srgbClr val="ffffff"/>
                </a:solidFill>
                <a:latin typeface="Tahoma"/>
              </a:rPr>
              <a:t>گفت : قسم به خدا با آنچه از شما شنيدم بى ترديد شما سرچشمه نورانى اسلام و ستارگان احكام خداهستيد (لقد كنتم منار الاسلام و نجوم الاحكام ).</a:t>
            </a:r>
            <a:br>
              <a:rPr sz="1800"/>
            </a:br>
            <a:r>
              <a:rPr b="1" lang="fa-IR" sz="1800" spc="-1" strike="noStrike">
                <a:solidFill>
                  <a:srgbClr val="ffffff"/>
                </a:solidFill>
                <a:latin typeface="Tahoma"/>
              </a:rPr>
              <a:t>امام فرمود: يك سؤال از تو مى پرسم .</a:t>
            </a:r>
            <a:br>
              <a:rPr sz="1800"/>
            </a:br>
            <a:r>
              <a:rPr b="1" lang="fa-IR" sz="1800" spc="-1" strike="noStrike">
                <a:solidFill>
                  <a:srgbClr val="ffffff"/>
                </a:solidFill>
                <a:latin typeface="Tahoma"/>
              </a:rPr>
              <a:t>گفت : بپرس , يابن رسول اللّه .</a:t>
            </a:r>
            <a:br>
              <a:rPr sz="1800"/>
            </a:br>
            <a:r>
              <a:rPr b="1" lang="fa-IR" sz="1800" spc="-1" strike="noStrike">
                <a:solidFill>
                  <a:srgbClr val="ffffff"/>
                </a:solidFill>
                <a:latin typeface="Tahoma"/>
              </a:rPr>
              <a:t>فـرمود: آيه ((فاما الجدار فكان لغلامين يتيمين فى المدينه )) (كهف / </a:t>
            </a:r>
            <a:r>
              <a:rPr b="1" lang="fa-IR" sz="1800" spc="-1" strike="noStrike">
                <a:solidFill>
                  <a:srgbClr val="ffffff"/>
                </a:solidFill>
                <a:latin typeface="Tahoma"/>
              </a:rPr>
              <a:t>81</a:t>
            </a:r>
            <a:r>
              <a:rPr b="1" lang="fa-IR" sz="1800" spc="-1" strike="noStrike">
                <a:solidFill>
                  <a:srgbClr val="ffffff"/>
                </a:solidFill>
                <a:latin typeface="Tahoma"/>
              </a:rPr>
              <a:t>) را خوانده اى ؟ </a:t>
            </a:r>
            <a:br>
              <a:rPr sz="1800"/>
            </a:br>
            <a:r>
              <a:rPr b="1" lang="fa-IR" sz="1800" spc="-1" strike="noStrike">
                <a:solidFill>
                  <a:srgbClr val="ffffff"/>
                </a:solidFill>
                <a:latin typeface="Tahoma"/>
              </a:rPr>
              <a:t>اى نافع ! چه كسى آن گنج گرانبها را براى آن دو يتيم در زير ديوار پنهان كرده بود تا به آنان ارث رسد.</a:t>
            </a:r>
            <a:br>
              <a:rPr sz="1800"/>
            </a:br>
            <a:r>
              <a:rPr b="1" lang="fa-IR" sz="1800" spc="-1" strike="noStrike">
                <a:solidFill>
                  <a:srgbClr val="ffffff"/>
                </a:solidFill>
                <a:latin typeface="Tahoma"/>
              </a:rPr>
              <a:t>گفت : پدر يتيمان .</a:t>
            </a:r>
            <a:br>
              <a:rPr sz="1800"/>
            </a:br>
            <a:r>
              <a:rPr b="1" lang="fa-IR" sz="1800" spc="-1" strike="noStrike">
                <a:solidFill>
                  <a:srgbClr val="ffffff"/>
                </a:solidFill>
                <a:latin typeface="Tahoma"/>
              </a:rPr>
              <a:t>فـرمـود: راسـتـى پدر آنها بهتر و دلسوزتر براى فرزندانش بود يا رسول خدا؟ </a:t>
            </a:r>
            <a:br>
              <a:rPr sz="1800"/>
            </a:br>
            <a:r>
              <a:rPr b="1" lang="fa-IR" sz="1800" spc="-1" strike="noStrike">
                <a:solidFill>
                  <a:srgbClr val="ffffff"/>
                </a:solidFill>
                <a:latin typeface="Tahoma"/>
              </a:rPr>
              <a:t>آيا مى توان باور كرد كـه پيامبر علم گران بهاى خويش را براى فرزندانش به وديعت نگذاشته باشد و ما را از آن محروم كرده باشد؟ </a:t>
            </a:r>
            <a:br>
              <a:rPr sz="1800"/>
            </a:br>
            <a:br>
              <a:rPr sz="1800"/>
            </a:br>
            <a:r>
              <a:rPr b="1" lang="fa-I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549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غاز نهضت عاشورا ـ مرگ معاوي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106" name=""/>
          <p:cNvSpPr/>
          <p:nvPr/>
        </p:nvSpPr>
        <p:spPr>
          <a:xfrm>
            <a:off x="468360" y="1037160"/>
            <a:ext cx="8136000" cy="5946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عاويه در روز يك شنبه نيمه ماه رجب سال شصت هجرى , پس از نوزده سال و سه ماه حكمرانى , دردمشق از دنيا رفت سه روز طول كشيد تا يزيد توانست خود را از شكارگاه ((حوران )) به دمشق برساند و برجاى پدر بنشيند.</a:t>
            </a:r>
            <a:br>
              <a:rPr sz="2400"/>
            </a:br>
            <a:r>
              <a:rPr b="1" lang="fa-IR" sz="2400" spc="-1" strike="noStrike">
                <a:solidFill>
                  <a:srgbClr val="ffffff"/>
                </a:solidFill>
                <a:latin typeface="Tahoma"/>
              </a:rPr>
              <a:t>در ايـن زمـان فـرمـاندار مدينه , پسر عموى يزيد, وليد بن عتبة بن ابى سفيان بود يزيد نامه اى به اونـوشـت و بـه او دستور داد از مردم مدينه بيعت مجدد بگيرد قبل از اين , معاويه در زمان حيات خوديك بار براى يزيد از مردم بيعت گرفته بود.</a:t>
            </a:r>
            <a:br>
              <a:rPr sz="2400"/>
            </a:br>
            <a:r>
              <a:rPr b="1" lang="fa-IR" sz="2400" spc="-1" strike="noStrike">
                <a:solidFill>
                  <a:srgbClr val="ffffff"/>
                </a:solidFill>
                <a:latin typeface="Tahoma"/>
              </a:rPr>
              <a:t>هـمـراه بـا ايـن بـرنامه , در نامه اى محرمانه به او نوشت كه در گرفتن بيعت بر امام حسين (ع ) و عبداللّه بن زبير و عبداللّه بن عمر و عبدالرحمن بن ابى بكر سخت گيرى كند و به او دستور داد هر كس از بيعت امتناع كرد گردنش را بزند و سرش را براى او بفرستد.</a:t>
            </a:r>
            <a:endParaRPr b="0" lang="en-US" sz="24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خواست بيعت از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539640" y="1700280"/>
            <a:ext cx="8229600" cy="4114800"/>
          </a:xfrm>
          <a:prstGeom prst="rect">
            <a:avLst/>
          </a:prstGeom>
          <a:noFill/>
          <a:ln w="0">
            <a:noFill/>
          </a:ln>
        </p:spPr>
        <p:txBody>
          <a:bodyPr lIns="90000" rIns="90000" tIns="46800" bIns="46800" anchor="t">
            <a:normAutofit fontScale="75000"/>
          </a:bodyPr>
          <a:p>
            <a:pPr marL="257040" indent="-2570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با عبداللّه بن زبير كنار قبر شريف پيامبر اكرم (ص ) نشسته بود عبداللّه پسر عمرو بـن عـثمان وارد شد سلام كرد و گفت : امير مى خواهد شما به نزد او برويد حضرت فرمود: پس از ايـن مـجلس به نزد او خواهيم رفت عبداللّه بن زبير به امام حسين (ع ) گفت : معمولا وليد در اين ساعت ملاقات ندارد, من از اين ملاقات نگرانم , نظر شما چيست ؟ </a:t>
            </a:r>
            <a:br>
              <a:rPr sz="2800"/>
            </a:br>
            <a:r>
              <a:rPr b="1" lang="fa-IR" sz="2800" spc="-1" strike="noStrike">
                <a:solidFill>
                  <a:srgbClr val="ffffff"/>
                </a:solidFill>
                <a:latin typeface="Tahoma"/>
              </a:rPr>
              <a:t>امام فرمود: به نظرم معاويه مرده اسـت و ايـن دعوت براى گرفتن بيعت است عبداللّه گفت : اگر از ما بخواهند با يزيد بيعت كنيم چه بايد كرد؟ .</a:t>
            </a:r>
            <a:br>
              <a:rPr sz="2800"/>
            </a:br>
            <a:r>
              <a:rPr b="1" lang="fa-IR" sz="2800" spc="-1" strike="noStrike">
                <a:solidFill>
                  <a:srgbClr val="ffffff"/>
                </a:solidFill>
                <a:latin typeface="Tahoma"/>
              </a:rPr>
              <a:t>امـام فـرمـود: من هرگز با يزيد بيعت نخواهم كرد, چون يزيد مردى است فاسق كه فسق خود را آشكاركرده , شراب مى نوشد, سگ بازى و يوز بازى مى كند و ما خاندان رسول خدايي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انگيزه قيام</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0" name="PlaceHolder 2"/>
          <p:cNvSpPr>
            <a:spLocks noGrp="1"/>
          </p:cNvSpPr>
          <p:nvPr>
            <p:ph/>
          </p:nvPr>
        </p:nvSpPr>
        <p:spPr>
          <a:xfrm>
            <a:off x="-360" y="1341360"/>
            <a:ext cx="9396360" cy="511200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طـول تـاريـخ اسـلام از آغـاز ظـهور تاكنون , حساس ترين زمان در سرنوشت اسلام , زمان امام حـسين (ع ) است و قيام امام حسين (ع ) نيز مؤثرترين و ارزنده ترين حركتى است كه در راه احياى دين و اظهار حق به وقوع پيوسته است .</a:t>
            </a:r>
            <a:br>
              <a:rPr sz="2400"/>
            </a:br>
            <a:r>
              <a:rPr b="1" lang="fa-IR" sz="2400" spc="-1" strike="noStrike">
                <a:solidFill>
                  <a:srgbClr val="ffffff"/>
                </a:solidFill>
                <a:latin typeface="Tahoma"/>
              </a:rPr>
              <a:t>امـام حـسين (ع ) خود را بر سر يك دو راهى تعيين كننده مى ديد كه يك راه به محو كامل اسلام و راه ديـگر به احياى دين ختم مى شد آن حضرت مى توانست سكوت كند و مانند ديگران با حكومت يـزيـدبـسـازد و مـانـند مصلحت انديشان زمان خود, با تغافل از اصل حكومت , به مسائل جزئى و سطحى بپردازد, از يك زندگى در سطح عالى و احترام و موقعيت بالاى اجتماعى برخوردار باشد.</a:t>
            </a:r>
            <a:br>
              <a:rPr sz="2400"/>
            </a:br>
            <a:r>
              <a:rPr b="1" lang="fa-IR" sz="2400" spc="-1" strike="noStrike">
                <a:solidFill>
                  <a:srgbClr val="ffffff"/>
                </a:solidFill>
                <a:latin typeface="Tahoma"/>
              </a:rPr>
              <a:t>ايـن درسـت هـمـان چـيزى بود كه دستگاه حكومت اموى آرزو مى كرد, ولى با شناختى كه از آن حضرت داشت مى دانست هرگز به اين آرزو نخواهد رسيد و به هيچ قيمتى نمى تواند همكارى و يا حتى سكوت آن حضرت را به دست آورد.</a:t>
            </a:r>
            <a:br>
              <a:rPr sz="2400"/>
            </a:br>
            <a:r>
              <a:rPr b="1" lang="fa-IR" sz="2400" spc="-1" strike="noStrike">
                <a:solidFill>
                  <a:srgbClr val="ffffff"/>
                </a:solidFill>
                <a:latin typeface="Tahoma"/>
              </a:rPr>
              <a:t>يـزيـد بـه يـاد داشـت كـه امام حسين (ع ) در نامه اى به پدرش معاويه , جنگ با بنى اميه را عملى خـداپـسـنـدانـه شمرده بود همه بنى اميه مى دانند كه امام حسين (ع ) حكومت يزيد را به رسـمـيـت نـخـواهـدشـناخت مروان بن حكم در مقام راهنمايى به وليد بن عتبه فرماندار مدينه مى گويد: كسانى را كه يزيد نام برده , هم اكنون احضار كن و از آنها بخواه كه بيعت كنند, ولى من مـى دانـم كـه حـسـيـن هرگز با يزيد بيعت نخواهد كرد و طاعت او را به گردن نخواهد گرفت</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640" y="333360"/>
            <a:ext cx="8229600" cy="68580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درسـت بـه همين دليل است كه يزيد همين كه به قدرت مى رسد مى خواهد تكليف خود را باامام حـسـين (ع ) روشن كند او به وليد بن عتبه فرماندار مدينه مى نويسد: فورا از حسين بيعت بگير و اگرسرباز زد او را گردن بزن.</a:t>
            </a:r>
            <a:br>
              <a:rPr sz="1800"/>
            </a:br>
            <a:r>
              <a:rPr b="1" lang="fa-IR" sz="1800" spc="-1" strike="noStrike">
                <a:solidFill>
                  <a:srgbClr val="ffffff"/>
                </a:solidFill>
                <a:latin typeface="Tahoma"/>
              </a:rPr>
              <a:t>او مـى دانـد تـا حـسـين بن على (ع ) فرزند پيامبر هست , حكومت بى دغدغه بر جهان اسلام براى اوميسر نخواهد شد.</a:t>
            </a:r>
            <a:br>
              <a:rPr sz="1800"/>
            </a:br>
            <a:r>
              <a:rPr b="1" lang="fa-IR" sz="1800" spc="-1" strike="noStrike">
                <a:solidFill>
                  <a:srgbClr val="ffffff"/>
                </a:solidFill>
                <a:latin typeface="Tahoma"/>
              </a:rPr>
              <a:t>بـنـابـر ايـن بـر خـلاف نـظـر كـسـانـى كـه حركت و قيام حضرت اباعبداللّه (ع ) را ناشى از فشار بـنـى امـيـه مـى دانـنـد, موضع بنى اميه در قبال امام حسين (ع ) ناشى از شناختى است كه از امام حـسـيـن (ع ) دارنـد اگـريـزيـد احتمال مى داد امام حسين (ع ) در قبال حكومت ناحق او سكوت مى كند, هرگز مزاحم آن حضرت نمى شد.</a:t>
            </a:r>
            <a:br>
              <a:rPr sz="1800"/>
            </a:br>
            <a:r>
              <a:rPr b="1" lang="fa-IR" sz="1800" spc="-1" strike="noStrike">
                <a:solidFill>
                  <a:srgbClr val="ffffff"/>
                </a:solidFill>
                <a:latin typeface="Tahoma"/>
              </a:rPr>
              <a:t>امـام حـسـيـن (ع ) در شرايط موجود آن زمان اصل دين را در خطر نابودى مى ديد او نه تنها يزيد راشـايـسـتـه خـلافـت نـمـى دانست , بلكه او را به عنوان مردى با تمام خصلت ها و صفات ناپسند مى شناخت.</a:t>
            </a:r>
            <a:br>
              <a:rPr sz="1800"/>
            </a:br>
            <a:r>
              <a:rPr b="1" lang="fa-IR" sz="1800" spc="-1" strike="noStrike">
                <a:solidFill>
                  <a:srgbClr val="ffffff"/>
                </a:solidFill>
                <a:latin typeface="Tahoma"/>
              </a:rPr>
              <a:t>از ايـن رو تسليم در برابر يزيد را ناروا و ايستادگى در برابر او را واجب مى دانست و تكليف خود را درايـن مـيـان از هـمـه سنگين تر مى ديد</a:t>
            </a:r>
            <a:r>
              <a:rPr b="0" lang="fa-IR" sz="1800" spc="-1" strike="noStrike" u="sng">
                <a:solidFill>
                  <a:srgbClr val="ffcc00"/>
                </a:solidFill>
                <a:uFillTx/>
                <a:latin typeface="Tahoma"/>
                <a:hlinkClick r:id="rId2"/>
              </a:rPr>
              <a:t> </a:t>
            </a:r>
            <a:r>
              <a:rPr b="1" lang="fa-IR" sz="1800" spc="-1" strike="noStrike">
                <a:solidFill>
                  <a:srgbClr val="ffffff"/>
                </a:solidFill>
                <a:latin typeface="Tahoma"/>
              </a:rPr>
              <a:t>و در وصيتى كه براى برادرش محمد بن حنفيه نـوشـت اصول اساسى حركت خود را كه همان دفاع از دين و حفظ جامعه اسلامى از خطر انحراف بـود تـرسـيـم كـرد</a:t>
            </a:r>
            <a:r>
              <a:rPr b="0" lang="fa-IR" sz="1800" spc="-1" strike="noStrike" u="sng">
                <a:solidFill>
                  <a:srgbClr val="ffcc00"/>
                </a:solidFill>
                <a:uFillTx/>
                <a:latin typeface="Tahoma"/>
                <a:hlinkClick r:id="rId3"/>
              </a:rPr>
              <a:t> </a:t>
            </a:r>
            <a:r>
              <a:rPr b="1" lang="fa-IR" sz="1800" spc="-1" strike="noStrike">
                <a:solidFill>
                  <a:srgbClr val="ffffff"/>
                </a:solidFill>
                <a:latin typeface="Tahoma"/>
              </a:rPr>
              <a:t>و از مـديـنه خارج شد هنگامى كه امام حسين (ع ) به مكه رسيد و خبر مـخـالـفـت او بـا يزيد منتشر شد, مردم كوفه تصميم گرفتند آن حضرت را به كوفه دعوت كنند.</a:t>
            </a:r>
            <a:br>
              <a:rPr sz="1800"/>
            </a:br>
            <a:r>
              <a:rPr b="1" lang="fa-IR" sz="1800" spc="-1" strike="noStrike">
                <a:solidFill>
                  <a:srgbClr val="ffffff"/>
                </a:solidFill>
                <a:latin typeface="Tahoma"/>
              </a:rPr>
              <a:t>بـنـابر اين نمى توان گفت امام حسين (ع ) تحت تاثير دعوت كوفيان قيام كرد, چون دعوت مردم كـوفـه نـيـز يـكى از آثار حركت امام حسين (ع ) به شمار مى رود و مردم كوفه وقتى امام را دعوت كردند كه امام ازبيعت سرباز زده و در مكه مستقر شده بود.</a:t>
            </a:r>
            <a:br>
              <a:rPr sz="1800"/>
            </a:br>
            <a:r>
              <a:rPr b="1" lang="fa-IR" sz="1800" spc="-1" strike="noStrike">
                <a:solidFill>
                  <a:srgbClr val="ffffff"/>
                </a:solidFill>
                <a:latin typeface="Tahoma"/>
              </a:rPr>
              <a:t>نـتـيـجـه ايـن كـه حركت امام حسين (ع ) تنها ناشى از احساس وظيفه آن حضرت و نياز دين به حركتى اساسى در راه براندازى جور و ستم بود و دعوت مردم كوفه هيچ تاثيرى در اراده راسخ آن امام نداشت كه خود فرمود: به خدا اگر در دنيا هيچ جا و پناهگاهى نداشته باشم با يزيد بن معاويه بيعت نخواهم كرد.</a:t>
            </a:r>
            <a:br>
              <a:rPr sz="1800"/>
            </a:br>
            <a:r>
              <a:rPr b="1" lang="fa-IR" sz="1800" spc="-1" strike="noStrike">
                <a:solidFill>
                  <a:srgbClr val="ffffff"/>
                </a:solidFill>
                <a:latin typeface="Tahoma"/>
              </a:rPr>
              <a:t>بـه هـمـيـن دليل است كه حضرت در اولين روزهاى حركت خود به سمت كوفه , از تغيير اوضاع آن سـامـان با خبر شد,</a:t>
            </a:r>
            <a:r>
              <a:rPr b="0" lang="fa-IR" sz="1800" spc="-1" strike="noStrike" u="sng">
                <a:solidFill>
                  <a:srgbClr val="ffcc00"/>
                </a:solidFill>
                <a:uFillTx/>
                <a:latin typeface="Tahoma"/>
                <a:hlinkClick r:id="rId4"/>
              </a:rPr>
              <a:t> </a:t>
            </a:r>
            <a:r>
              <a:rPr b="1" lang="fa-IR" sz="1800" spc="-1" strike="noStrike">
                <a:solidFill>
                  <a:srgbClr val="ffffff"/>
                </a:solidFill>
                <a:latin typeface="Tahoma"/>
              </a:rPr>
              <a:t>ولى از راهى كه انتخاب كرده بود, باز نگشت هر بار كه خبر شهادت يكى ازيارانش به دست مردم كوفه را دريافت مى كرد مى فرمود: ايشان به عهد خويش وفا نكردند و ما همچنان در انتظار انجام وظيفه ايم</a:t>
            </a:r>
            <a:r>
              <a:rPr b="0" lang="fa-IR"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خروج امام حسين (ع ) از مك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250560" y="1152000"/>
            <a:ext cx="8893080" cy="5877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مـام حـسـيـن (ع ) روز سـوم شـعـبـان سـال </a:t>
            </a:r>
            <a:r>
              <a:rPr b="1" lang="fa-IR" sz="2400" spc="-1" strike="noStrike">
                <a:solidFill>
                  <a:srgbClr val="ffffff"/>
                </a:solidFill>
                <a:latin typeface="Tahoma"/>
              </a:rPr>
              <a:t>60</a:t>
            </a:r>
            <a:r>
              <a:rPr b="1" lang="fa-IR" sz="2400" spc="-1" strike="noStrike">
                <a:solidFill>
                  <a:srgbClr val="ffffff"/>
                </a:solidFill>
                <a:latin typeface="Tahoma"/>
              </a:rPr>
              <a:t> هجرى وارد مكه شد روز پانزدهم رمضان همان سال مسلم بن عقيل را به سمت كوفه اعزام كرد و خود همچنان در مكه ماند تا نامه مسلم از كوفه به دست اورسيد او نوشته بود هجده هزار نفر با او بيعت كرده و مردم , امام حسين را پيشواى خود مـى دانند و هيچ تمايلى به بنى اميه ندارند به همين جهت امام روز هشتم ذيحجه (روز ترويه ) كه حـجـاج به سوى عرفات مى روند, حج خويش را به عمره مفرده بدل كرد و از مكه به سمت عرفات حركت كرد.</a:t>
            </a:r>
            <a:br>
              <a:rPr sz="2400"/>
            </a:br>
            <a:r>
              <a:rPr b="1" lang="fa-IR" sz="2400" spc="-1" strike="noStrike">
                <a:solidFill>
                  <a:srgbClr val="ffffff"/>
                </a:solidFill>
                <a:latin typeface="Tahoma"/>
              </a:rPr>
              <a:t>حضرت به دو دليل اين روز خاص را براى حركت انتخاب كرد:.</a:t>
            </a:r>
            <a:br>
              <a:rPr sz="2400"/>
            </a:br>
            <a:r>
              <a:rPr b="1" lang="fa-IR" sz="2400" spc="-1" strike="noStrike">
                <a:solidFill>
                  <a:srgbClr val="ffffff"/>
                </a:solidFill>
                <a:latin typeface="Tahoma"/>
              </a:rPr>
              <a:t>اول اين كه اگر حضرت پس از پايان مراسم حج مكه را ترك مى كرد, حركت آن حضرت هيچ , موج وبـازتـابـى نداشت , چرا كه ترك مكه پس از مراسم حج يك حركت عادى و معمولى است , ولى در روزى كه مراسم حج شروع مى شود و در شرايط عادى خروج از حرم و ترك مراسم حج حرام است , چنان غيرعادى و سؤال برانگيز است كه همه مسلمانان را به انديشه وا مى دارد.</a:t>
            </a:r>
            <a:br>
              <a:rPr sz="2400"/>
            </a:br>
            <a:r>
              <a:rPr b="1" lang="fa-IR" sz="2400" spc="-1" strike="noStrike">
                <a:solidFill>
                  <a:srgbClr val="ffffff"/>
                </a:solidFill>
                <a:latin typeface="Tahoma"/>
              </a:rPr>
              <a:t>دوم ايـن كـه يـزيـد تـعـدادى از مـزدوران بنى اميه را به مكه فرستاده بود تا به عنوان حاجى در مـراسـم شـركـت كـرده و مترصد باشند كه در يكى از مواضع ازدحام جمعيت مثل طواف و رمى جـمـرات حـضرت را ترور كنند و اگر چنين اتفاقى مى افتاد اولا حرمت حرم شكسته مى شد, ثانيا شـهـادت حضرت هيچ تاثيرى در تغيير وضع جامعه نداشت , به همين جهت امام حسين (ع ) تلاش مى كرد خود را از حرم دورنموده حرمت حرم را حفظ كند و خود بارها به اين نكته تصريح فرموده اس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با كمتر از جان نمى توان با حسين (ع ) همراهى كرد</a:t>
            </a:r>
            <a:endParaRPr b="0" lang="en-US" sz="3600" spc="-1" strike="noStrike">
              <a:solidFill>
                <a:srgbClr val="ffffff"/>
              </a:solidFill>
              <a:latin typeface="Tahoma"/>
            </a:endParaRPr>
          </a:p>
        </p:txBody>
      </p:sp>
      <p:sp>
        <p:nvSpPr>
          <p:cNvPr id="115" name="PlaceHolder 2"/>
          <p:cNvSpPr>
            <a:spLocks noGrp="1"/>
          </p:cNvSpPr>
          <p:nvPr>
            <p:ph/>
          </p:nvPr>
        </p:nvSpPr>
        <p:spPr>
          <a:xfrm>
            <a:off x="0" y="1628280"/>
            <a:ext cx="9144000" cy="525636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مـام حـسـيـن (ع ) كـه تـنـهـا به منظور امر به معروف و نهى از منكر و اصلاح امت حركت كرده بـودمـى دانـسـت كـه كار جهان اسلام جز با خون و شهادت اصلاح نمى شود, به همين جهت تنها كـسـانـى را درجمع ياران خود مى پذيرفت كه آمادگى جان نثارى در راه اين هدف والا را داشته باشند.</a:t>
            </a:r>
            <a:br>
              <a:rPr sz="2000"/>
            </a:br>
            <a:r>
              <a:rPr b="1" lang="fa-IR" sz="2000" spc="-1" strike="noStrike">
                <a:solidFill>
                  <a:srgbClr val="ffffff"/>
                </a:solidFill>
                <a:latin typeface="Tahoma"/>
              </a:rPr>
              <a:t>كـاروان امـام حـسـين (ع ) به قصر ((بنى مقاتل )) رسيد در آنجا خيمه اى بر پا بود حضرت پرسيد: ايـن خـيمه از آن كيست گفتند: اين خيمه ((عبيداللّه بن حر جعفى )) است حضرت يكى از ياران خود به نام ((حجاج بن مشروق جعفى )) را فرستاد تا او را به يارى خود دعوت كند.</a:t>
            </a:r>
            <a:br>
              <a:rPr sz="2000"/>
            </a:br>
            <a:r>
              <a:rPr b="1" lang="fa-IR" sz="2000" spc="-1" strike="noStrike">
                <a:solidFill>
                  <a:srgbClr val="ffffff"/>
                </a:solidFill>
                <a:latin typeface="Tahoma"/>
              </a:rPr>
              <a:t>عـبـيداللّه از قاصد امام پرسيد: چه خبر دارى ؟ </a:t>
            </a:r>
            <a:br>
              <a:rPr sz="2000"/>
            </a:br>
            <a:r>
              <a:rPr b="1" lang="fa-IR" sz="2000" spc="-1" strike="noStrike">
                <a:solidFill>
                  <a:srgbClr val="ffffff"/>
                </a:solidFill>
                <a:latin typeface="Tahoma"/>
              </a:rPr>
              <a:t>گفت : با خير آمده ام , اگر بپذيرى خداوند كرامت بـزرگـى بـه تـو عـنايت كرده است حسين بن على (ع ) تو را به يارى خود مى خواند اگر در راه او كشته شوى شهيد واگر زنده بمانى پاداش مى گيرى .</a:t>
            </a:r>
            <a:br>
              <a:rPr sz="2000"/>
            </a:br>
            <a:r>
              <a:rPr b="1" lang="fa-IR" sz="2000" spc="-1" strike="noStrike">
                <a:solidFill>
                  <a:srgbClr val="ffffff"/>
                </a:solidFill>
                <a:latin typeface="Tahoma"/>
              </a:rPr>
              <a:t>گـفـت بـه خـدا مـن از كـوفـه گريخته ام كه به مسئله او گرفتار نشوم , چون ديدم او در كوفه ياورى ندارد.</a:t>
            </a:r>
            <a:br>
              <a:rPr sz="2000"/>
            </a:br>
            <a:r>
              <a:rPr b="1" lang="fa-IR" sz="2000" spc="-1" strike="noStrike">
                <a:solidFill>
                  <a:srgbClr val="ffffff"/>
                </a:solidFill>
                <a:latin typeface="Tahoma"/>
              </a:rPr>
              <a:t>حـجـاج بـرگـشـت و سـخـنـان او را براى امام نقل كرد امام خود برخاست , به نزد او رفت و از او طلب يارى كرد.</a:t>
            </a:r>
            <a:br>
              <a:rPr sz="2000"/>
            </a:br>
            <a:r>
              <a:rPr b="1" lang="fa-IR" sz="2000" spc="-1" strike="noStrike">
                <a:solidFill>
                  <a:srgbClr val="ffffff"/>
                </a:solidFill>
                <a:latin typeface="Tahoma"/>
              </a:rPr>
              <a:t>او در جـواب گـفـت : اگـر تو ياورانى داشتى كه در ركابت بجنگند, من از سر سخت ترين ايشان بـودم , ولى خودم ديدم كه شيعيان تو در كوفه از ترس شمشير بنى اميه در خانه ها را به روى خود بـسـتـه انـد ترا به خدااز من چيز ديگرى بخواه تا اطاعت كنم من اسبى دارم كه با آن هر چيزى را تـعـقـيـب كـرده ام بـدسـت آورده ام و از هر چيزى كه گريخته ام نجات يافته ام , اين اسب را به تو مى دهم .</a:t>
            </a:r>
            <a:br>
              <a:rPr sz="2000"/>
            </a:br>
            <a:r>
              <a:rPr b="1" lang="fa-IR" sz="2000" spc="-1" strike="noStrike">
                <a:solidFill>
                  <a:srgbClr val="ffffff"/>
                </a:solidFill>
                <a:latin typeface="Tahoma"/>
              </a:rPr>
              <a:t>حـضـرت فـرمـود: مـن از تـو يـارى خواستم , حال كه جانت را از ما دريغ مالت نيست</a:t>
            </a:r>
            <a:r>
              <a:rPr b="0"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س جوانمرد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7" name="PlaceHolder 2"/>
          <p:cNvSpPr>
            <a:spLocks noGrp="1"/>
          </p:cNvSpPr>
          <p:nvPr>
            <p:ph/>
          </p:nvPr>
        </p:nvSpPr>
        <p:spPr>
          <a:xfrm>
            <a:off x="250560" y="1905120"/>
            <a:ext cx="8893080" cy="495288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كـاروان امـام حـسـيـن (ع ) هـمـچـنـان در حـركت بود تا منزل ((شراف)) رسيد هنگام سحر به جوانان همراهش دستور داد تا مى توانند آب بردارند و با آب فراوان از آنجا كوچ كردند تا نيمروز راه پيمودند درحال حركت بودند كه يكى از اصحاب حضرت تكبير گفت .</a:t>
            </a:r>
            <a:br>
              <a:rPr sz="2800"/>
            </a:br>
            <a:r>
              <a:rPr b="1" lang="fa-IR" sz="2800" spc="-1" strike="noStrike">
                <a:solidFill>
                  <a:srgbClr val="ffffff"/>
                </a:solidFill>
                <a:latin typeface="Tahoma"/>
              </a:rPr>
              <a:t>امـام فـرمـود: آرى خـدا بزرگتر است , براى چه تكبير گفتى ؟ </a:t>
            </a:r>
            <a:br>
              <a:rPr sz="2800"/>
            </a:br>
            <a:r>
              <a:rPr b="1" lang="fa-IR" sz="2800" spc="-1" strike="noStrike">
                <a:solidFill>
                  <a:srgbClr val="ffffff"/>
                </a:solidFill>
                <a:latin typeface="Tahoma"/>
              </a:rPr>
              <a:t>گفت نخلستان ديدم گروهى از اصـحـاب گـفـتند: ما هرگز در اين منطقه نخلستان نديده ايم فرمود, پس به نظر شما چيست ؟ </a:t>
            </a:r>
            <a:br>
              <a:rPr sz="2800"/>
            </a:br>
            <a:r>
              <a:rPr b="1" lang="fa-IR" sz="2800" spc="-1" strike="noStrike">
                <a:solidFill>
                  <a:srgbClr val="ffffff"/>
                </a:solidFill>
                <a:latin typeface="Tahoma"/>
              </a:rPr>
              <a:t>گـفـتند به نظر ما نوك نيزه ها و گوش اسبان است فرمود: آرى همين است آيا جايى هست كه به آن پناه ببريم و پشت به آن , بااين سپاه مواجه شويم .</a:t>
            </a:r>
            <a:br>
              <a:rPr sz="2800"/>
            </a:br>
            <a:br>
              <a:rPr sz="2800"/>
            </a:b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16280"/>
            <a:ext cx="8964720" cy="58766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سـول گـرامى اسلامى (ص ) فرمود: به وسيله من آگاه شديد, با على راه يافتيد وهدايت شديد, نيكى ها به واسطه حسن به شما عطا شد, ولى سعادت </a:t>
            </a:r>
            <a:r>
              <a:rPr b="1" lang="fa-IR" sz="3200" spc="-1" strike="noStrike">
                <a:solidFill>
                  <a:srgbClr val="ffffff"/>
                </a:solidFill>
                <a:latin typeface="Tahoma"/>
              </a:rPr>
              <a:t> </a:t>
            </a:r>
            <a:r>
              <a:rPr b="0" lang="fa-IR" sz="3200" spc="-1" strike="noStrike">
                <a:solidFill>
                  <a:srgbClr val="ffffff"/>
                </a:solidFill>
                <a:latin typeface="Tahoma"/>
              </a:rPr>
              <a:t>وشقاوت شما با حسين است آگاه باشيد كه حسين يكى از درهاى بهشت است , هر كس با او دشمنى كنـد, خدابوى بهشت را بر او حرام مى كند </a:t>
            </a:r>
            <a:endParaRPr b="0" lang="en-US" sz="3200" spc="-1" strike="noStrike">
              <a:solidFill>
                <a:srgbClr val="ffffff"/>
              </a:solidFill>
              <a:latin typeface="Tahoma"/>
            </a:endParaRPr>
          </a:p>
        </p:txBody>
      </p:sp>
      <p:sp>
        <p:nvSpPr>
          <p:cNvPr id="85" name="PlaceHolder 2"/>
          <p:cNvSpPr>
            <a:spLocks noGrp="1"/>
          </p:cNvSpPr>
          <p:nvPr>
            <p:ph type="title"/>
          </p:nvPr>
        </p:nvSpPr>
        <p:spPr>
          <a:xfrm>
            <a:off x="3635280" y="115920"/>
            <a:ext cx="5112000" cy="1440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ع ) بابى از بهشت </a:t>
            </a:r>
            <a:r>
              <a:rPr b="0" lang="fa-IR"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گـفـتند: آرى كوه ((ذوحسم )) در طرف چپ ماست , اگر زودتر به آن برسيم همان چيزى است كه شمامى خواهيد.</a:t>
            </a:r>
            <a:br>
              <a:rPr sz="2400"/>
            </a:br>
            <a:r>
              <a:rPr b="1" lang="fa-IR" sz="2400" spc="-1" strike="noStrike">
                <a:solidFill>
                  <a:srgbClr val="ffffff"/>
                </a:solidFill>
                <a:latin typeface="Tahoma"/>
              </a:rPr>
              <a:t>حـضـرت بـه سـمـت چپ متمايل شد, طولى نكشيد كه گردن اسب ها نيز نمايان شد چنانكه به خـوبـى ديده مى شدند آنها هم وقتى ديدند امام به سمت چپ رفت به همان متمايل شدند كاروان امـام زودتر به ((ذو حسم )) رسيد حضرت فرمود تا چادرها بر پا شد و لشكر از راه رسيد, هزار سوار بـه فـرمـانـدهـى حر بن يزيد تميمى نزديك ظهر بود كه با امام مواجه شدند امام و اصحابش همه عمامه بر سر نهاده و شمشيربسته بودند.</a:t>
            </a:r>
            <a:br>
              <a:rPr sz="2400"/>
            </a:br>
            <a:r>
              <a:rPr b="1" lang="fa-IR" sz="2400" spc="-1" strike="noStrike">
                <a:solidFill>
                  <a:srgbClr val="ffffff"/>
                </a:solidFill>
                <a:latin typeface="Tahoma"/>
              </a:rPr>
              <a:t>امـام فـرمـود: تـا جـوانان , لشكر حر را سيراب كنند و اسبان آنها را نيز كمى آب دهند گروهى از جـوانـان به سپاه آب مى دادند و گروهى ديگر ظرفهاى بزرگ را از آب پر مى كردند و جلو اسب ها مى گذاشتند وقتى هر اسب چند جرعه مى نوشيد آب را بر مى داشتند و جلو ديگرى مى گذاشتند و به اين ترتيب همه اسب ها و سواران را آب دادند.</a:t>
            </a:r>
            <a:br>
              <a:rPr sz="2400"/>
            </a:br>
            <a:r>
              <a:rPr b="1" lang="fa-IR" sz="2400" spc="-1" strike="noStrike">
                <a:solidFill>
                  <a:srgbClr val="ffffff"/>
                </a:solidFill>
                <a:latin typeface="Tahoma"/>
              </a:rPr>
              <a:t>((على بن طعان محاربى )) مى گويد: من در لشكر حر آخرين نفرى بودم كه به آنجا رسيدم , وقتى امام تشنگى من و اسبم را ديد فرمود: راويه را بخوابان .</a:t>
            </a:r>
            <a:br>
              <a:rPr sz="2400"/>
            </a:br>
            <a:r>
              <a:rPr b="1" lang="fa-IR" sz="2400" spc="-1" strike="noStrike">
                <a:solidFill>
                  <a:srgbClr val="ffffff"/>
                </a:solidFill>
                <a:latin typeface="Tahoma"/>
              </a:rPr>
              <a:t>لـفـظ راويـه در زبـان عـراقـى بـه مـعنى مشك بود و لذا من منظور حضرت را نفهميدم حضرت فرمود: برادرزاده ! شتر را بخوابان , من شتر را خواباندم .</a:t>
            </a:r>
            <a:br>
              <a:rPr sz="2400"/>
            </a:br>
            <a:r>
              <a:rPr b="1" lang="fa-IR" sz="2400" spc="-1" strike="noStrike">
                <a:solidFill>
                  <a:srgbClr val="ffffff"/>
                </a:solidFill>
                <a:latin typeface="Tahoma"/>
              </a:rPr>
              <a:t>فرمود: بنوش !.</a:t>
            </a:r>
            <a:br>
              <a:rPr sz="2400"/>
            </a:br>
            <a:r>
              <a:rPr b="1" lang="fa-IR" sz="2400" spc="-1" strike="noStrike">
                <a:solidFill>
                  <a:srgbClr val="ffffff"/>
                </a:solidFill>
                <a:latin typeface="Tahoma"/>
              </a:rPr>
              <a:t>هـر چـه خـواسـتم بنوشم آب از مشك ريخت فرمود: مشك را برگردان ! من نفهميدم بايد چكار كـنـم حـضرت پيش آمد, با دست خود لبه مشك را برگرداند تا من آب نوشيدم و اسبم را هم آب داد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22960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ركت به سوى كربلا</a:t>
            </a:r>
            <a:endParaRPr b="0" lang="en-US" sz="4400" spc="-1" strike="noStrike">
              <a:solidFill>
                <a:srgbClr val="ffffff"/>
              </a:solidFill>
              <a:latin typeface="Tahoma"/>
            </a:endParaRPr>
          </a:p>
        </p:txBody>
      </p:sp>
      <p:sp>
        <p:nvSpPr>
          <p:cNvPr id="1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ـر مـامـور بـود امـام حسين (ع ) را تحت الحفظ به كوفه برده به عبيداللّه تحويل دهد, ولى خود سـعـى مـى كـرد نـسبت به حضرت بى احترامى نكند مثلا وقتى حضرت از او پرسيد: مى خواهى با اصـحاب خودجداگانه نماز بخوانى يا در نماز ما شركت مى كنى , عرض كرد: در نماز شما شركت مى كنيم</a:t>
            </a:r>
            <a:r>
              <a:rPr b="0" lang="fa-IR" sz="2800" spc="-1" strike="noStrike" u="sng">
                <a:solidFill>
                  <a:srgbClr val="ffcc00"/>
                </a:solidFill>
                <a:uFillTx/>
                <a:latin typeface="Tahoma"/>
                <a:hlinkClick r:id="rId2"/>
              </a:rPr>
              <a:t> </a:t>
            </a:r>
            <a:r>
              <a:rPr b="1" lang="fa-IR" sz="2800" spc="-1" strike="noStrike">
                <a:solidFill>
                  <a:srgbClr val="ffffff"/>
                </a:solidFill>
                <a:latin typeface="Tahoma"/>
              </a:rPr>
              <a:t>در جاى ديگر هنگامى كه امام از او ناراحت شد و فرمود: مادرت به عزايت بنشيند, گفت : اگر كس ديگرى اين جمله را مى گفت حتما نام مادرش را مى بردم , ولى از مادر تو فاطمه جز با نيكى و احترام نمى توانم يادكنم چنان كه گفتيم حر مامور به جنگ نبود, به همين جـهـت وقـتـى دريافت كه امام تن به ذلت نخواهد داد و همراه او به كوفه نخواهد رفت و خود نيز اجـازه نـداشـت او را رهـا كند, تا چنانكه حضرت خواست به مدينه برگردد, از حضرت خواست به راهى رود كه نه به كوفه برسد نه به مدينه ختم شود, تااو بتواند از ابن زياد كسب تكليف كند.</a:t>
            </a:r>
            <a:br>
              <a:rPr sz="2800"/>
            </a:br>
            <a:r>
              <a:rPr b="1" lang="fa-IR" sz="2800" spc="-1" strike="noStrike">
                <a:solidFill>
                  <a:srgbClr val="ffffff"/>
                </a:solidFill>
                <a:latin typeface="Tahoma"/>
              </a:rPr>
              <a:t>امـام تـقاضاى حر را پذيرفت و به سمت چپ حركت كرد و اين همان راهى بود كه با چند منزل به كربلامى رسي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رود به كربلا</a:t>
            </a:r>
            <a:endParaRPr b="0" lang="en-US" sz="4400" spc="-1" strike="noStrike">
              <a:solidFill>
                <a:srgbClr val="ffffff"/>
              </a:solidFill>
              <a:latin typeface="Tahoma"/>
            </a:endParaRPr>
          </a:p>
        </p:txBody>
      </p:sp>
      <p:sp>
        <p:nvSpPr>
          <p:cNvPr id="122" name="PlaceHolder 2"/>
          <p:cNvSpPr>
            <a:spLocks noGrp="1"/>
          </p:cNvSpPr>
          <p:nvPr>
            <p:ph/>
          </p:nvPr>
        </p:nvSpPr>
        <p:spPr>
          <a:xfrm>
            <a:off x="539640" y="1699920"/>
            <a:ext cx="8229600" cy="46069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م حسين (ع ) در روز دوم محرم سال </a:t>
            </a:r>
            <a:r>
              <a:rPr b="1" lang="fa-IR" sz="2800" spc="-1" strike="noStrike">
                <a:solidFill>
                  <a:srgbClr val="ffffff"/>
                </a:solidFill>
                <a:latin typeface="Tahoma"/>
              </a:rPr>
              <a:t>61</a:t>
            </a:r>
            <a:r>
              <a:rPr b="1" lang="fa-IR" sz="2800" spc="-1" strike="noStrike">
                <a:solidFill>
                  <a:srgbClr val="ffffff"/>
                </a:solidFill>
                <a:latin typeface="Tahoma"/>
              </a:rPr>
              <a:t> هجرى وارد كربلا شد.</a:t>
            </a:r>
            <a:br>
              <a:rPr sz="2800"/>
            </a:br>
            <a:r>
              <a:rPr b="1" lang="fa-IR" sz="2800" spc="-1" strike="noStrike">
                <a:solidFill>
                  <a:srgbClr val="ffffff"/>
                </a:solidFill>
                <a:latin typeface="Tahoma"/>
              </a:rPr>
              <a:t>هنگامى كه به او گفتند اينجا كربلاست , دست به دعا گشود و عرض كرد: بار الها از كرب (اندوه ) و بلابه تو پناه مى بريم آنگاه رو به اصحاب كرده فرمود:.</a:t>
            </a:r>
            <a:br>
              <a:rPr sz="2800"/>
            </a:br>
            <a:r>
              <a:rPr b="1" lang="fa-IR" sz="2800" spc="-1" strike="noStrike">
                <a:solidFill>
                  <a:srgbClr val="ffffff"/>
                </a:solidFill>
                <a:latin typeface="Tahoma"/>
              </a:rPr>
              <a:t>مـردم بـنـدگـان دنـيـايـند و دين چيزى است كه بر روى زبان دارند, تا زمانى كه موجب رونق دنيايشان باشد آن را نگه مى دارند, چون نوبت به آزمايش رسد دينداران بسيار اندكند.</a:t>
            </a:r>
            <a:br>
              <a:rPr sz="2800"/>
            </a:br>
            <a:r>
              <a:rPr b="1" lang="fa-IR" sz="2800" spc="-1" strike="noStrike">
                <a:solidFill>
                  <a:srgbClr val="ffffff"/>
                </a:solidFill>
                <a:latin typeface="Tahoma"/>
              </a:rPr>
              <a:t>ايـنـجـا محل اندوه و بلاست , همين جا توقف كنيد اينجا محل اقامت و بارانداز ماست , جايى است كـه خـون مـا مى ريزد, اينجا قتلگاه ماست همه پياده شدند و حر و اصحابش در طرف ديگر منزل كر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شكل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ـمـر سـعـد با همراهان وارد كربلا شد و ابن زياد پى در پى براى او نيرو مى فرستاد در روز ششم مـحرم لشكرى بيست و دو هزار نفره تحت فرمان داشت روز هفتم از عبيداللّه نامه اى دريافت كرد كـه دستورداده بود نگذارند امام حسين (ع ) و يارانش از آب فرات استفاده كنند ابن سعد شخصى بـه نـام عـمرو بن حجاج زبيدى را به فرماندهى سپاهى بر شريعه فرات گمارد و از آن روز آب در خيمه گاه امام كمياب شد</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جنگ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وقتى مشاهده كرد آب در خيمه ها كمياب شده , برادرش عباس را به فرماندهى سـى سـوار و ده پياده مامور تهيه آب كرد هلال بن نافع جملى پيشاپيش پيادگان حركت مى كرد عـمـرو بـن حجاج پرسيد كيستى ؟ </a:t>
            </a:r>
            <a:br>
              <a:rPr sz="2800"/>
            </a:br>
            <a:r>
              <a:rPr b="1" lang="fa-IR" sz="2800" spc="-1" strike="noStrike">
                <a:solidFill>
                  <a:srgbClr val="ffffff"/>
                </a:solidFill>
                <a:latin typeface="Tahoma"/>
              </a:rPr>
              <a:t>گفت : من نافعم , آمده ام از اين آب كه تو ما را محروم كرده اى بنوشم عمر گفت :بنوش گوارايت باد.</a:t>
            </a:r>
            <a:br>
              <a:rPr sz="2800"/>
            </a:br>
            <a:r>
              <a:rPr b="1" lang="fa-IR" sz="2800" spc="-1" strike="noStrike">
                <a:solidFill>
                  <a:srgbClr val="ffffff"/>
                </a:solidFill>
                <a:latin typeface="Tahoma"/>
              </a:rPr>
              <a:t>هلال گفت : واى بر تو! چگونه بنوشم در حالى كه حسين و همراهانش تشنه اند.</a:t>
            </a:r>
            <a:br>
              <a:rPr sz="2800"/>
            </a:br>
            <a:r>
              <a:rPr b="1" lang="fa-IR" sz="2800" spc="-1" strike="noStrike">
                <a:solidFill>
                  <a:srgbClr val="ffffff"/>
                </a:solidFill>
                <a:latin typeface="Tahoma"/>
              </a:rPr>
              <a:t>گفت : مى دانم ولى ما ماموريم نگذاريم دست او به آب برسد.</a:t>
            </a:r>
            <a:br>
              <a:rPr sz="2800"/>
            </a:br>
            <a:r>
              <a:rPr b="1" lang="fa-IR" sz="2800" spc="-1" strike="noStrike">
                <a:solidFill>
                  <a:srgbClr val="ffffff"/>
                </a:solidFill>
                <a:latin typeface="Tahoma"/>
              </a:rPr>
              <a:t>هـلال بـه اصـحـابش گفت وارد آب شوند و عمر نيز به لشكرش دستور مقابله داد جنگ سختى درگرفت سواران مى جنگيدند و پيادگان مشكها را آب مى كردند عده اى از ياران عمروبن حجاج بـه هـلاكـت رسـيـدنـد و ياران امام با بيست مشك پر از آب به خيمه ها برگشتند و اينجا بود كه حضرت , عباس را سقالقب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0464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خرين نشست</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8" name="PlaceHolder 2"/>
          <p:cNvSpPr>
            <a:spLocks noGrp="1"/>
          </p:cNvSpPr>
          <p:nvPr>
            <p:ph/>
          </p:nvPr>
        </p:nvSpPr>
        <p:spPr>
          <a:xfrm>
            <a:off x="250560" y="1483920"/>
            <a:ext cx="8893080" cy="537372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شـب دهـم مـحـرم , نـزديـك مـغـرب امـام حـسـين (ع ) اصحابش را جمع كرد و در جمع ايشان خطبه اى خواند و فرمود:.</a:t>
            </a:r>
            <a:br>
              <a:rPr sz="2400"/>
            </a:br>
            <a:r>
              <a:rPr b="1" lang="fa-IR" sz="2400" spc="-1" strike="noStrike">
                <a:solidFill>
                  <a:srgbClr val="ffffff"/>
                </a:solidFill>
                <a:latin typeface="Tahoma"/>
              </a:rPr>
              <a:t>خدا را ستايش مى كنم به بهترين ستايش ها و در گشايش و سختى او را سپاس مى گزارم خدايا تو را سـپاس مى گويم كه ما را با نبوت احترام كردى و قرآنمان آموختى و در دين آگاهى دادى و به مـا قـلب و شنوايى عنايت كردى , پس ما را در زمره شكرگزاران قرار ده اما بعد, من يارانى بهتر و بـاوفاتر از ياران خود و خانواده اى نيكوكارتر از خانواده خويش نمى شناسم , خدا از جانب من پاداش نيكتان دهد من گمان مى كنم كار ما با اين مردم به جنگ و ستيز مى كشد, بنابراين شما را مرخص مـى كنم و بيعت خويش از گردن شما برمى دارم همه برويد, اكنون شب است و پرده تاريكى همه چـيـز را پوشانده است هر كدام دست يكى از اهل بيت مرا بگيريد و درتاريكى شب پراكنده شويد و مرا با اين قوم به حال خود رها كنيد, اينان جز با من با كسى كارى ندارند.</a:t>
            </a:r>
            <a:br>
              <a:rPr sz="2400"/>
            </a:br>
            <a:r>
              <a:rPr b="1" lang="fa-IR" sz="2400" spc="-1" strike="noStrike">
                <a:solidFill>
                  <a:srgbClr val="ffffff"/>
                </a:solidFill>
                <a:latin typeface="Tahoma"/>
              </a:rPr>
              <a:t>چون سخنان امام به اينجا رسيد, برادران , پسران , برادرزادگان و خواهرزادگانش به سخن آمده گفتندبراى چه اين كار را بكنيم ؟ </a:t>
            </a:r>
            <a:br>
              <a:rPr sz="2400"/>
            </a:br>
            <a:br>
              <a:rPr sz="2400"/>
            </a:b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333000"/>
            <a:ext cx="8820000" cy="604836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براى اين كه بعد از تو زنده بمانيم ؟ </a:t>
            </a:r>
            <a:br>
              <a:rPr sz="2400"/>
            </a:br>
            <a:r>
              <a:rPr b="1" lang="fa-IR" sz="2400" spc="-1" strike="noStrike">
                <a:solidFill>
                  <a:srgbClr val="ffffff"/>
                </a:solidFill>
                <a:latin typeface="Tahoma"/>
              </a:rPr>
              <a:t>خدا آن روز را نياورد.</a:t>
            </a:r>
            <a:br>
              <a:rPr sz="2400"/>
            </a:br>
            <a:r>
              <a:rPr b="1" lang="fa-IR" sz="2400" spc="-1" strike="noStrike">
                <a:solidFill>
                  <a:srgbClr val="ffffff"/>
                </a:solidFill>
                <a:latin typeface="Tahoma"/>
              </a:rPr>
              <a:t>قبل از همه , عباس (ع ) پسر اميرالمؤمنين (ع ) سخن گفت و بعد ديگران به پيروى از او سخنانى به اين مضمون گفتند.</a:t>
            </a:r>
            <a:br>
              <a:rPr sz="2400"/>
            </a:br>
            <a:r>
              <a:rPr b="1" lang="fa-IR" sz="2400" spc="-1" strike="noStrike">
                <a:solidFill>
                  <a:srgbClr val="ffffff"/>
                </a:solidFill>
                <a:latin typeface="Tahoma"/>
              </a:rPr>
              <a:t>آنـگاه حضرت به فرزندان عقيل رو كرد و فرمود: براى شما قتل مسلم كافى است , شما برويد, من به شما اجازه دادم .</a:t>
            </a:r>
            <a:br>
              <a:rPr sz="2400"/>
            </a:br>
            <a:r>
              <a:rPr b="1" lang="fa-IR" sz="2400" spc="-1" strike="noStrike">
                <a:solidFill>
                  <a:srgbClr val="ffffff"/>
                </a:solidFill>
                <a:latin typeface="Tahoma"/>
              </a:rPr>
              <a:t>ايشان گفتند: سبحان اللّه ! ما بزرگ و سالار خود و عموزادگان خويش را كه بهترين عموزادگان هستندرها كنيم و در دفاع از ايشان كوتاهى كنيم و ندانيم چه بر سر ايشان مى آيد آن وقت مردم به مـا چـه خـواهندگفت و ما به ايشان چه بگوييم به خدا چنين كارى نمى كنيم , بلكه جان و مال و خانواده خويش را فدايت مى كنيم و در كنارت مى جنگيم تا در سرنوشت تو شريك باشيم , زشت باد زندگى دنيا بعد از تو.</a:t>
            </a:r>
            <a:br>
              <a:rPr sz="2400"/>
            </a:br>
            <a:r>
              <a:rPr b="1" lang="fa-IR" sz="2400" spc="-1" strike="noStrike">
                <a:solidFill>
                  <a:srgbClr val="ffffff"/>
                </a:solidFill>
                <a:latin typeface="Tahoma"/>
              </a:rPr>
              <a:t>آنـگـاه مسلم بن عوسجه برخاست و گفت : در حالى كه دشمن اين گونه محاصره ات كرده تو را رهـاكـنـيم ؟ </a:t>
            </a:r>
            <a:br>
              <a:rPr sz="2400"/>
            </a:br>
            <a:r>
              <a:rPr b="1" lang="fa-IR" sz="2400" spc="-1" strike="noStrike">
                <a:solidFill>
                  <a:srgbClr val="ffffff"/>
                </a:solidFill>
                <a:latin typeface="Tahoma"/>
              </a:rPr>
              <a:t>پيش خدا چه عذرى بياوريم , خدا آن روز را نياورد من خواهم جنگيد تا نيزه ام را در سـيـنه هايشان بشكنم تا زمانى كه قبضه شمشير در دستم باشد شمشير خواهم زد و اگر سلاحى براى جنگ نداشته باشم سنگ به سويشان مى بارم و از تو جدا نمى شوم تا بميرم</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آنـگـاه سعيد بن عبداللّه حتمى برخاست گفت : يابن رسول اللّه ! به خدا هرگز رهايت نمى كنيم تا خدابداند كه ما در مورد شما, حرمت پيامبرش را حفظ كرديم به خدا اگر بدانم در راه تو هفتاد بار كـشته مى شوم و دوباره زنده مى شوم و زنده زنده در آتش مى سوزم و خاكسترم را به باد مى دهند از تـو جـدانمى شوم پس چگونه دست از تو بردارم وقتى كه مى دانم يك بار مردن است و بعد از آن كرامت ابدى .</a:t>
            </a:r>
            <a:br>
              <a:rPr sz="2800"/>
            </a:br>
            <a:r>
              <a:rPr b="1" lang="fa-IR" sz="2800" spc="-1" strike="noStrike">
                <a:solidFill>
                  <a:srgbClr val="ffffff"/>
                </a:solidFill>
                <a:latin typeface="Tahoma"/>
              </a:rPr>
              <a:t>پـس از او زهير بن رقين برخاست و گفت : يابن رسول اللّه به خدا دوست دارم هزار بار كشته شوم ودوباره زنده شوم و باز كشته شوم و خداوند جان تو و جوانان اهل بيتت را حفظ كند.</a:t>
            </a:r>
            <a:br>
              <a:rPr sz="2800"/>
            </a:br>
            <a:r>
              <a:rPr b="1" lang="fa-IR" sz="2800" spc="-1" strike="noStrike">
                <a:solidFill>
                  <a:srgbClr val="ffffff"/>
                </a:solidFill>
                <a:latin typeface="Tahoma"/>
              </a:rPr>
              <a:t>پـس از او اصـحـاب هـر كـدام در ايـن بـاب سـخـن رانـدند, گفتند: به خدا از تو جدا نمى شويم جانمان فداى تو باد, با دست و سر و سينه از تو دفاع مى كنيم تا كشته شويم و به عهد خود وفا كني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خنرانى امام در صبح عاشورا</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2"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ى مـردم ! مـى دانـيـد كه من كيستم ؟ </a:t>
            </a:r>
            <a:br>
              <a:rPr sz="2000"/>
            </a:br>
            <a:r>
              <a:rPr b="1" lang="fa-IR" sz="2000" spc="-1" strike="noStrike">
                <a:solidFill>
                  <a:srgbClr val="ffffff"/>
                </a:solidFill>
                <a:latin typeface="Tahoma"/>
              </a:rPr>
              <a:t>به خود باز گرديد, خود را سرزنش كنيد, ببينيد كشتن و هـتـك حرمت من براى شما حلال است ؟ </a:t>
            </a:r>
            <a:br>
              <a:rPr sz="2000"/>
            </a:br>
            <a:r>
              <a:rPr b="1" lang="fa-IR" sz="2000" spc="-1" strike="noStrike">
                <a:solidFill>
                  <a:srgbClr val="ffffff"/>
                </a:solidFill>
                <a:latin typeface="Tahoma"/>
              </a:rPr>
              <a:t>و به صلاح شماست ؟ </a:t>
            </a:r>
            <a:br>
              <a:rPr sz="2000"/>
            </a:br>
            <a:r>
              <a:rPr b="1" lang="fa-IR" sz="2000" spc="-1" strike="noStrike">
                <a:solidFill>
                  <a:srgbClr val="ffffff"/>
                </a:solidFill>
                <a:latin typeface="Tahoma"/>
              </a:rPr>
              <a:t>آيا من دخترزاده پيامبر شما و زاده وصـى و پـسـر عـمـوى او, اولين كسى كه به خدا ايمان آورد و رسولش را تصديق كرد و دين او را پـذيـرفـت نـيستم ؟ </a:t>
            </a:r>
            <a:br>
              <a:rPr sz="2000"/>
            </a:br>
            <a:r>
              <a:rPr b="1" lang="fa-IR" sz="2000" spc="-1" strike="noStrike">
                <a:solidFill>
                  <a:srgbClr val="ffffff"/>
                </a:solidFill>
                <a:latin typeface="Tahoma"/>
              </a:rPr>
              <a:t>آيا حمزه سيدالشهدا عموى پدرم نيست ؟ </a:t>
            </a:r>
            <a:br>
              <a:rPr sz="2000"/>
            </a:br>
            <a:r>
              <a:rPr b="1" lang="fa-IR" sz="2000" spc="-1" strike="noStrike">
                <a:solidFill>
                  <a:srgbClr val="ffffff"/>
                </a:solidFill>
                <a:latin typeface="Tahoma"/>
              </a:rPr>
              <a:t>آيا جعفر طيار عموى من نيست ؟ </a:t>
            </a:r>
            <a:br>
              <a:rPr sz="2000"/>
            </a:br>
            <a:r>
              <a:rPr b="1" lang="fa-IR" sz="2000" spc="-1" strike="noStrike">
                <a:solidFill>
                  <a:srgbClr val="ffffff"/>
                </a:solidFill>
                <a:latin typeface="Tahoma"/>
              </a:rPr>
              <a:t>آيا نشنيده ايد كه پيامبر اكرم به من و برادرم فرمود: ((شما سرورجوانان بهشت هستيد؟ </a:t>
            </a:r>
            <a:br>
              <a:rPr sz="2000"/>
            </a:br>
            <a:r>
              <a:rPr b="1" lang="fa-IR" sz="2000" spc="-1" strike="noStrike">
                <a:solidFill>
                  <a:srgbClr val="ffffff"/>
                </a:solidFill>
                <a:latin typeface="Tahoma"/>
              </a:rPr>
              <a:t>به خدا قسم از زمـانـى كه دانسته ام خدا بر دروغگويان خشم مى گيرد, هرگز دروغى نگفته ام اگر اين سخن حـق را از مـن بـاور نـمـى كـنـيـد كـسـانـى در مـيـان شما هستند كه به شما خواهند گفت از جـابربن عبداللّه انصارى , ابوسعيد خدرى , سهل بن سعد, زيد بن ارقم و انس بن مالك بپرسيد تا به شـما بگويند كه اين سخن را از رسول خدا شنيده اند آيا اين باعث نمى شود كه شما از ريختن خون من دست برداريد؟ .</a:t>
            </a:r>
            <a:br>
              <a:rPr sz="2000"/>
            </a:br>
            <a:r>
              <a:rPr b="1" lang="fa-IR" sz="2000" spc="-1" strike="noStrike">
                <a:solidFill>
                  <a:srgbClr val="ffffff"/>
                </a:solidFill>
                <a:latin typeface="Tahoma"/>
              </a:rPr>
              <a:t>شـمـر گـفت : خدا را با شك و ترديد پرستيده باشم اگر بدانم او چه مى گويد حبيب بن مظاهر گـفت : به خدا سوگند به نظر من تو خدا را با هفتاد گونه شك و ترديد پرستيده اى خدا بر قلبت مهر زده و نمى دانى او چه مى گويد.</a:t>
            </a:r>
            <a:br>
              <a:rPr sz="2000"/>
            </a:br>
            <a:r>
              <a:rPr b="1" lang="fa-IR" sz="2000" spc="-1" strike="noStrike">
                <a:solidFill>
                  <a:srgbClr val="ffffff"/>
                </a:solidFill>
                <a:latin typeface="Tahoma"/>
              </a:rPr>
              <a:t>آنـگـاه امام فرمود: آيا ترديد داريد كه من فرزند دختر پيامبر شما هستم به خدا قسم در تمام روى زمين نه در ميان شما و نه در جاى ديگر جز من دختر زاده اى براى پيامبر نيست .</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560" y="259920"/>
            <a:ext cx="8893080" cy="6597720"/>
          </a:xfrm>
          <a:prstGeom prst="rect">
            <a:avLst/>
          </a:prstGeom>
          <a:noFill/>
          <a:ln w="0">
            <a:noFill/>
          </a:ln>
        </p:spPr>
        <p:txBody>
          <a:bodyPr lIns="90000" rIns="90000" tIns="46800" bIns="46800"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ـه من بگوييد آيا خونى به گردن من داريد كه مطالبه كنيد, آيا مالى از شما ضايع كرده ام كه آن رابخواهيد, آيا به كسى زخمى زده ام كه آن را قصاص كنيد؟ .</a:t>
            </a:r>
            <a:br>
              <a:rPr sz="2800"/>
            </a:br>
            <a:r>
              <a:rPr b="1" lang="fa-IR" sz="2800" spc="-1" strike="noStrike">
                <a:solidFill>
                  <a:srgbClr val="ffffff"/>
                </a:solidFill>
                <a:latin typeface="Tahoma"/>
              </a:rPr>
              <a:t>آنها ديگر با حسين (ص ) سخن نگفتند.</a:t>
            </a:r>
            <a:br>
              <a:rPr sz="2800"/>
            </a:br>
            <a:r>
              <a:rPr b="1" lang="fa-IR" sz="2800" spc="-1" strike="noStrike">
                <a:solidFill>
                  <a:srgbClr val="ffffff"/>
                </a:solidFill>
                <a:latin typeface="Tahoma"/>
              </a:rPr>
              <a:t>حـضـرت صـدا زد: اى شـبـث بن ربعى ! اى حجار ابجر! اى قيس بن اشعث ! اى زيد بن حارث ! آيا شمابراى من ننوشتيد كه من بيايم .</a:t>
            </a:r>
            <a:br>
              <a:rPr sz="2800"/>
            </a:br>
            <a:r>
              <a:rPr b="1" lang="fa-IR" sz="2800" spc="-1" strike="noStrike">
                <a:solidFill>
                  <a:srgbClr val="ffffff"/>
                </a:solidFill>
                <a:latin typeface="Tahoma"/>
              </a:rPr>
              <a:t>گـفـتـند: ما ننوشتيم فرمود: آرى خود شما نوشتيد, اكنون كه مرا نمى خواهيد, پس بگذاريد باز گردم قيس بن اشعث گفت : چرا تسليم پسر عمويت نمى شوى .</a:t>
            </a:r>
            <a:br>
              <a:rPr sz="2800"/>
            </a:br>
            <a:r>
              <a:rPr b="1" lang="fa-IR" sz="2800" spc="-1" strike="noStrike">
                <a:solidFill>
                  <a:srgbClr val="ffffff"/>
                </a:solidFill>
                <a:latin typeface="Tahoma"/>
              </a:rPr>
              <a:t>.</a:t>
            </a:r>
            <a:br>
              <a:rPr sz="2800"/>
            </a:br>
            <a:r>
              <a:rPr b="1" lang="fa-IR" sz="2800" spc="-1" strike="noStrike">
                <a:solidFill>
                  <a:srgbClr val="ffffff"/>
                </a:solidFill>
                <a:latin typeface="Tahoma"/>
              </a:rPr>
              <a:t>فرمود: نه ! به خدا مانند ذليلان از شما اطاعت نمى كنم و چون بندگان خود را در اختيار شماقرار نمى دهم.</a:t>
            </a:r>
            <a:br>
              <a:rPr sz="2800"/>
            </a:br>
            <a:r>
              <a:rPr b="1" lang="fa-IR" sz="2800" spc="-1" strike="noStrike">
                <a:solidFill>
                  <a:srgbClr val="ffffff"/>
                </a:solidFill>
                <a:latin typeface="Tahoma"/>
              </a:rPr>
              <a:t>كـسـانـى كه امام حسين (ص ) با آنها سخن مى گفت از آنچه حضرت بيان مى كرد به خوبى آگاه بـودند وامام نيز مى دانست كه اين سخنان هيچ تاثيرى در آنها ندارد و تا خون او را نريزند دست بر نـمـى دارنـد بـااين حال به اقتضاى وظيفه امامت و به منظور اتمام حجت , تا آخرين لحظات عمر شريف خود با آن مردم سخن گفت و بارها موقعيت و منزلت خود را به آنها ياد آور ش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404280"/>
            <a:ext cx="763272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شخصيت و فضايل امام حسين (ع ) ـ مولد و ميلاد</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87" name="PlaceHolder 2"/>
          <p:cNvSpPr>
            <a:spLocks noGrp="1"/>
          </p:cNvSpPr>
          <p:nvPr>
            <p:ph/>
          </p:nvPr>
        </p:nvSpPr>
        <p:spPr>
          <a:xfrm>
            <a:off x="457200" y="1905120"/>
            <a:ext cx="8686800" cy="495288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عضى از مورخان تولد آن حضرت را روز آخر ربيع الاول سال سـوم هـجرى دانسته و بعضى ديگر گفته اند در پنجم جمادى الاول سال سوم يا چهارم هجرت به دنيا آمده است بنابراين درباره تولد آن حضرت چند قول وجود دارد, ولى قول مشهور اين است كه ايشان در روزسوم شعبان سال چهارم هجرت به دنيا آمده است .</a:t>
            </a:r>
            <a:br>
              <a:rPr sz="2800"/>
            </a:br>
            <a:r>
              <a:rPr b="0" lang="fa-IR" sz="2800" spc="-1" strike="noStrike">
                <a:solidFill>
                  <a:srgbClr val="ffffff"/>
                </a:solidFill>
                <a:latin typeface="Tahoma"/>
              </a:rPr>
              <a:t>هـنـگـامـى كه آن حضرت متولد شد او را نزد جد بزرگوارش رسول خدا(ص ) آوردند آن حضرت باديدن او سخت مسرور شد و در گوش راستش اذان و در گوش چپش اقامه گفت و روز هفتم تـولدش گوسفندى براى او عقيقه كرد و به مادرش فرمود: ((سرش را بتراشيد و به وزن موهايش نقره صدقه دهيد)). حـسـيـن بن على (ص ) در مدينه منوره در سال چهارم هجرى در روز سه شنبه , سوم ماه شعبان ياپنجشنبه پنجم همان ماه متولد شد</a:t>
            </a:r>
            <a:br>
              <a:rPr sz="2800"/>
            </a:br>
            <a:br>
              <a:rPr sz="2800"/>
            </a:b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توبه جناب حر</a:t>
            </a:r>
            <a:endParaRPr b="0" lang="en-US" sz="4400" spc="-1" strike="noStrike">
              <a:solidFill>
                <a:srgbClr val="ffffff"/>
              </a:solidFill>
              <a:latin typeface="Tahoma"/>
            </a:endParaRPr>
          </a:p>
        </p:txBody>
      </p:sp>
      <p:sp>
        <p:nvSpPr>
          <p:cNvPr id="135" name="PlaceHolder 2"/>
          <p:cNvSpPr>
            <a:spLocks noGrp="1"/>
          </p:cNvSpPr>
          <p:nvPr>
            <p:ph/>
          </p:nvPr>
        </p:nvSpPr>
        <p:spPr>
          <a:xfrm>
            <a:off x="0" y="1844640"/>
            <a:ext cx="9144000" cy="54720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صبح عاشورا حر ديد كه عمر سعد لشكر خود را براى جنگ آماده مى كند رو به او كرد و گفت :.</a:t>
            </a:r>
            <a:br>
              <a:rPr sz="2000"/>
            </a:br>
            <a:r>
              <a:rPr b="1" lang="fa-IR" sz="2000" spc="-1" strike="noStrike">
                <a:solidFill>
                  <a:srgbClr val="ffffff"/>
                </a:solidFill>
                <a:latin typeface="Tahoma"/>
              </a:rPr>
              <a:t>راستى تو با اين مرد خواهى جنگيد؟ .</a:t>
            </a:r>
            <a:br>
              <a:rPr sz="2000"/>
            </a:br>
            <a:r>
              <a:rPr b="1" lang="fa-IR" sz="2000" spc="-1" strike="noStrike">
                <a:solidFill>
                  <a:srgbClr val="ffffff"/>
                </a:solidFill>
                <a:latin typeface="Tahoma"/>
              </a:rPr>
              <a:t>گفت : آرى به خدا, جنگى كه افتادن سرها و پريدن دست ها كم ترين نتيجه اش باشد.</a:t>
            </a:r>
            <a:br>
              <a:rPr sz="2000"/>
            </a:br>
            <a:r>
              <a:rPr b="1" lang="fa-IR" sz="2000" spc="-1" strike="noStrike">
                <a:solidFill>
                  <a:srgbClr val="ffffff"/>
                </a:solidFill>
                <a:latin typeface="Tahoma"/>
              </a:rPr>
              <a:t>ـ چرا پيشنهاد او را نمى پذيريد.</a:t>
            </a:r>
            <a:br>
              <a:rPr sz="2000"/>
            </a:br>
            <a:r>
              <a:rPr b="1" lang="fa-IR" sz="2000" spc="-1" strike="noStrike">
                <a:solidFill>
                  <a:srgbClr val="ffffff"/>
                </a:solidFill>
                <a:latin typeface="Tahoma"/>
              </a:rPr>
              <a:t>ـ اگر كار به دست من بود مى پذيرفتم , ولى امير تو (ابن زياد) نپذيرفت .</a:t>
            </a:r>
            <a:br>
              <a:rPr sz="2000"/>
            </a:br>
            <a:r>
              <a:rPr b="1" lang="fa-IR" sz="2000" spc="-1" strike="noStrike">
                <a:solidFill>
                  <a:srgbClr val="ffffff"/>
                </a:solidFill>
                <a:latin typeface="Tahoma"/>
              </a:rPr>
              <a:t>حـر از عـمـر سـعـد جـدا شـد و آهسته آهسته خود را به اردوى امام نزديك كرد و در همان حال لرزش تمام اندام او را فرا گرفته بود.</a:t>
            </a:r>
            <a:br>
              <a:rPr sz="2000"/>
            </a:br>
            <a:r>
              <a:rPr b="1" lang="fa-IR" sz="2000" spc="-1" strike="noStrike">
                <a:solidFill>
                  <a:srgbClr val="ffffff"/>
                </a:solidFill>
                <a:latin typeface="Tahoma"/>
              </a:rPr>
              <a:t>مهاجر بن اوس به او گفت : من از كار تو متحيرم به خدا هرگز تو را اين گونه نديده بودم اگر از من مى پرسيدند شجاع ترين مردم كوفه كيست , بى ترديد تو را نام مى بردم .</a:t>
            </a:r>
            <a:br>
              <a:rPr sz="2000"/>
            </a:br>
            <a:r>
              <a:rPr b="1" lang="fa-IR" sz="2000" spc="-1" strike="noStrike">
                <a:solidFill>
                  <a:srgbClr val="ffffff"/>
                </a:solidFill>
                <a:latin typeface="Tahoma"/>
              </a:rPr>
              <a:t>گفت : خود را بين بهشت و جهنم مى بينم , ولى به خدا اگر قطعه قطعه شوم و آتشم بزنند چيزى را بربهشت ترجيح نمى دهم آنگاه اسب تاخت و خود را به اردوى امام رساند.</a:t>
            </a:r>
            <a:br>
              <a:rPr sz="2000"/>
            </a:br>
            <a:r>
              <a:rPr b="1" lang="fa-IR" sz="2000" spc="-1" strike="noStrike">
                <a:solidFill>
                  <a:srgbClr val="ffffff"/>
                </a:solidFill>
                <a:latin typeface="Tahoma"/>
              </a:rPr>
              <a:t>هنگامى كه خدمت امام رسيد, عرض كرد: من همانم كه نگذاشتم تو برگردى و پا به پايت آمدم تا تـورا در اينجا متوقف كردم به خدا گمان نمى كردم اينها پيشنهاد تو را رد كنند و با تو وارد جنگ شوند و به خدا اگر مى دانستم اينها با تو مى جنگند هرگز چنين كارى نمى كردم اكنون آمده ام تا تـوبـه كنم و با جان خويش ياريت كنم و در مقابل تو جان دهم , به نظر شما اين توبه از من پذيرفته است ؟ .</a:t>
            </a:r>
            <a:br>
              <a:rPr sz="2000"/>
            </a:br>
            <a:r>
              <a:rPr b="1" lang="fa-IR" sz="2000" spc="-1" strike="noStrike">
                <a:solidFill>
                  <a:srgbClr val="ffffff"/>
                </a:solidFill>
                <a:latin typeface="Tahoma"/>
              </a:rPr>
              <a:t>فرمود: آرى خدا توبه تو را مى پذيرد و تو را خواهد بخشي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ماز ظهر</a:t>
            </a:r>
            <a:endParaRPr b="0" lang="en-US" sz="4400" spc="-1" strike="noStrike">
              <a:solidFill>
                <a:srgbClr val="ffffff"/>
              </a:solidFill>
              <a:latin typeface="Tahoma"/>
            </a:endParaRPr>
          </a:p>
        </p:txBody>
      </p:sp>
      <p:sp>
        <p:nvSpPr>
          <p:cNvPr id="137"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ظـهـر از راه رسـيـد شـد ابـو ثمامه صائدى خدمت امام حسين (ص ) آمد عرض كرد: فدايت شوم يـاابـاعـبـداللّه ! دشمن نزديك و نزديك تر مى شود و تا من زنده ام دستشان به شما نخواهد رسيد, ولـى دوسـت دارم در حـالى به زيارت پروردگارم نائل شوم كه اين نماز را هم به امامت شمابه جا آورده بـاشـم حـضـرت نـگـاهـى بـه آسـمـان انداخت و فرمود: نماز را يادآورى كردى , خدا ترا از نمازگزاران قرار دهد, آرى اول وقت نماز است .</a:t>
            </a:r>
            <a:br>
              <a:rPr sz="2400"/>
            </a:br>
            <a:r>
              <a:rPr b="1" lang="fa-IR" sz="2400" spc="-1" strike="noStrike">
                <a:solidFill>
                  <a:srgbClr val="ffffff"/>
                </a:solidFill>
                <a:latin typeface="Tahoma"/>
              </a:rPr>
              <a:t>آنـگـاه فـرمود: از لشكر بخواهيد دست از جنگ بردارند تا نماز بخوانيم حصين بن تميم فرياد زد: نمازشما قبول نمى شود.</a:t>
            </a:r>
            <a:br>
              <a:rPr sz="2400"/>
            </a:br>
            <a:r>
              <a:rPr b="1" lang="fa-IR" sz="2400" spc="-1" strike="noStrike">
                <a:solidFill>
                  <a:srgbClr val="ffffff"/>
                </a:solidFill>
                <a:latin typeface="Tahoma"/>
              </a:rPr>
              <a:t>حبيب بن مظاهر فرمود: فكر مى كنى نماز تو قبول است , ولى نماز خاندان پيامبر قبول نمى شود؟ .</a:t>
            </a:r>
            <a:br>
              <a:rPr sz="2400"/>
            </a:br>
            <a:r>
              <a:rPr b="1" lang="fa-IR" sz="2400" spc="-1" strike="noStrike">
                <a:solidFill>
                  <a:srgbClr val="ffffff"/>
                </a:solidFill>
                <a:latin typeface="Tahoma"/>
              </a:rPr>
              <a:t>حصين به او حمله كرد با هم در آويختند حبيب او را بر زمين افكند, ولى اهل كوفه نجاتش دادند.</a:t>
            </a:r>
            <a:br>
              <a:rPr sz="2400"/>
            </a:br>
            <a:r>
              <a:rPr b="1" lang="fa-IR" sz="2400" spc="-1" strike="noStrike">
                <a:solidFill>
                  <a:srgbClr val="ffffff"/>
                </a:solidFill>
                <a:latin typeface="Tahoma"/>
              </a:rPr>
              <a:t>زهـيـر و سـعـيـد بـن عـبداللّه در جلوى امام ايستادند تا آن حضرت نماز بگذارد نيمى از اصحاب مـقابل حضرت صف كشيدند و نيمى ديگر در نماز به او اقتدا كردند و حضرت با اصحاب خود نماز خوف به جا آور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وبت آل رسول</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39"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صـحـاب سـيـد الـشـهـدا(ع ) عـهد بسته بودند تا زمانى كه حتى يكى از آنها زنده است نگذارند خـانـدان رسـول خـدا(ص ) به ميدان روند و بر اين عهد استوار ماندند آخرين نفر از اصحاب يعنى سويد بن ابى المطاع نيز به شهادت رسيد.</a:t>
            </a:r>
            <a:br>
              <a:rPr sz="2800"/>
            </a:br>
            <a:r>
              <a:rPr b="1" lang="fa-IR" sz="2800" spc="-1" strike="noStrike">
                <a:solidFill>
                  <a:srgbClr val="ffffff"/>
                </a:solidFill>
                <a:latin typeface="Tahoma"/>
              </a:rPr>
              <a:t>بـى شـك آنچه تا كنون بر قلب مبارك امام وارد شده بود, سنگين تر از آن بود كه در تصور بگنجد آن بزرگ , در حدود يك نيمروز شهادت پنجاه نفر از بهترين ياران خود را به چشم ديده بود, بالاى سـر هـمـه آنها حاضر شده و لحظات سخت جدايى را تحمل كرده بود آرى تنها روحى به بزرگى روح امـام حـسين (ع ) مى توانست بار چنين رنج گرانى را بر دوش كشد و همچنان راست قامت و استوار در برابردشمنان بايستد و حتى گامى به عقب نگذار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پيمان فداكار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شـب عـاشـورا, امـام حسين (ص ) از اهل بيت و اصحاب بيعت خود را برداشت و از آنها خواست كـه در تـاريـكى شب پراكنده شوند نخستين كسى كه اظهار وفادارى كرد عباس بود او در جواب امام حسين (ص ) گفت : چرا چنين كنيم ؟ </a:t>
            </a:r>
            <a:br>
              <a:rPr sz="3200"/>
            </a:br>
            <a:r>
              <a:rPr b="1" lang="fa-IR" sz="3200" spc="-1" strike="noStrike">
                <a:solidFill>
                  <a:srgbClr val="ffffff"/>
                </a:solidFill>
                <a:latin typeface="Tahoma"/>
              </a:rPr>
              <a:t>براى اين كه بعد از تو زنده بمانيم ؟ </a:t>
            </a:r>
            <a:br>
              <a:rPr sz="3200"/>
            </a:br>
            <a:r>
              <a:rPr b="1" lang="fa-IR" sz="3200" spc="-1" strike="noStrike">
                <a:solidFill>
                  <a:srgbClr val="ffffff"/>
                </a:solidFill>
                <a:latin typeface="Tahoma"/>
              </a:rPr>
              <a:t>خدا آن روز را نياورد و پس از اوبود كه اصحاب هر كدام به بيانى اظهار وفادارى كردن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عاشورا و امر به معروف </a:t>
            </a:r>
            <a:br>
              <a:rPr sz="4000"/>
            </a:br>
            <a:endParaRPr b="0" lang="en-US" sz="4000" spc="-1" strike="noStrike">
              <a:solidFill>
                <a:srgbClr val="ffffff"/>
              </a:solidFill>
              <a:latin typeface="Tahoma"/>
            </a:endParaRPr>
          </a:p>
        </p:txBody>
      </p:sp>
      <p:sp>
        <p:nvSpPr>
          <p:cNvPr id="143" name="PlaceHolder 2"/>
          <p:cNvSpPr>
            <a:spLocks noGrp="1"/>
          </p:cNvSpPr>
          <p:nvPr>
            <p:ph/>
          </p:nvPr>
        </p:nvSpPr>
        <p:spPr>
          <a:xfrm>
            <a:off x="468360" y="1341000"/>
            <a:ext cx="8229600" cy="468972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فرهنگ عاشورا،حاكميت ظلم يزيدى بزرگترين منكر اجتماعى است و مبارزه‏براى حاكم ساختن حق و قطع سلطه ستم،معروفى عظيم است.امر به معروف و نهى ازمنكر،از مهمترين فلسفه‏هاى حماسه خونين كربلاست.سيد الشهدا در وصيتى كه نوشته وبه برادرش محمد حنفيه مى‏سپارد،مى‏فرمايد:«انى ما خرجت اشرا و لا بطرا و لا مفسدا ولا ظالما،انما خرجت لطلب الاصلاح فى امة جدى،اريد ان آمر بالمعروف و انهى عن المنكرو اسير بسيرة جدى و ابى على بن ابى طالب‏». (</a:t>
            </a:r>
            <a:r>
              <a:rPr b="0" lang="fa-IR" sz="2800" spc="-1" strike="noStrike">
                <a:solidFill>
                  <a:srgbClr val="ffffff"/>
                </a:solidFill>
                <a:latin typeface="Tahoma"/>
              </a:rPr>
              <a:t>173</a:t>
            </a:r>
            <a:r>
              <a:rPr b="0" lang="fa-IR" sz="2800" spc="-1" strike="noStrike">
                <a:solidFill>
                  <a:srgbClr val="ffffff"/>
                </a:solidFill>
                <a:latin typeface="Tahoma"/>
              </a:rPr>
              <a:t>) اين به وضوح،نقش امر به معروف و نهى ازمنكر را در حركت عاشورايى امام نشان مى‏دهد.در زيارتنامه آن حضرت هم اين موضوع‏مطرح است:«اشهد انك قد اقمت الصلاة و آتيت الزكاة و امرت بالمعروف و نهيت عن‏المنكر و جاهدت فى سبيل الله حتى اتاك اليقي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475920"/>
            <a:ext cx="91440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Zar"/>
              </a:rPr>
              <a:t>اين تعبيرات،نشان دهنده عمق اين فريضه دينى است كه در متن جهاد خونين هم‏جلوه‏گر مى‏شود و دامنه امر به معروف و نهى از منكر،از واجبات و محرمات جزئى وفرعى و فردى،حتى به قيام براى اقامه قسط و سرنگونى حكومت باطل و تغيير نظام فاسداجتماعى هم گسترش مى‏يابد. سيد الشهدا،پس از امتناع از بيعت با يزيد و برخوردهايى‏كه با وليد و مروان داشت،كنار قبر پيامبر«ص‏»آمد و شب را آنجا به مناجات گذراند،درضمن مناجاتش با خدا،عشق خود را به معروف بيان كرد و خواستار آنچه‏«خير»است دراين مسير شد:«اللهم انى احب المعروف و انكر المنكر و انا اسالك يا ذا الجلال و الاكرام‏بحق القبر و من فيه الا اخترت لى ما هو لك رضى و لرسولك رضى‏». خدايا من معروف‏را دوست مى‏دارم و منكر را زشت مى‏شمارم.اى خداى بزرگوار و صاحب كرم!به حق‏اين قبر و مدفون در آن از تو مى‏خواهم راهى و سرنوشتى برايم برگزينى كه رضاى تو وپيامبرت در آن باشد. </a:t>
            </a:r>
            <a:endParaRPr b="0" lang="en-US" sz="2800" spc="-1" strike="noStrike">
              <a:solidFill>
                <a:srgbClr val="ffffff"/>
              </a:solidFill>
              <a:latin typeface="Tahoma"/>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امگذارى توسط پيامبر (ص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روايـات آمـده اسـت كـه نـامگذارى آن حضرت و برادر بزرگوارش به حسين و حسن , توسط شـخـص پـيامبر اكرم صورت گرفته است و تصريح شده است كه اين نامگذارى به دستور خداوند متعال بوده است .</a:t>
            </a:r>
            <a:br>
              <a:rPr sz="2400"/>
            </a:br>
            <a:r>
              <a:rPr b="1" lang="fa-IR" sz="2400" spc="-1" strike="noStrike">
                <a:solidFill>
                  <a:srgbClr val="ffffff"/>
                </a:solidFill>
                <a:latin typeface="Tahoma"/>
              </a:rPr>
              <a:t>از عـلى بن ابيطالب نقل كرده اند كه </a:t>
            </a:r>
            <a:r>
              <a:rPr b="1" lang="fa-IR" sz="2400" spc="-1" strike="noStrike">
                <a:solidFill>
                  <a:srgbClr val="ffffff"/>
                </a:solidFill>
                <a:latin typeface="Zr"/>
                <a:cs typeface="Zr"/>
              </a:rPr>
              <a:t>فرمود</a:t>
            </a:r>
            <a:r>
              <a:rPr b="1" lang="fa-IR" sz="2400" spc="-1" strike="noStrike">
                <a:solidFill>
                  <a:srgbClr val="ffffff"/>
                </a:solidFill>
                <a:latin typeface="Tahoma"/>
              </a:rPr>
              <a:t>: آن گاه كه حسن به دنيا آمد نام عمويم ((حمزه )) را بـر او نهادم و آن گاه كه حسين متولد گشت نام عموى ديگرم ((جعفر)) را بر او گذاشتم روزى رسول خدا(ص ) مرافراخواند و فرمود: من مامور شده ام كه نام آن دو را تغيير دهم , از اين پس آنان را حسن وحسين بخوانيد ((</a:t>
            </a:r>
            <a:r>
              <a:rPr b="1" lang="fa-IR" sz="2400" spc="-1" strike="noStrike">
                <a:solidFill>
                  <a:srgbClr val="ffffff"/>
                </a:solidFill>
                <a:latin typeface="Tahoma"/>
              </a:rPr>
              <a:t>2</a:t>
            </a:r>
            <a:r>
              <a:rPr b="1" lang="fa-IR" sz="2400" spc="-1" strike="noStrike">
                <a:solidFill>
                  <a:srgbClr val="ffffff"/>
                </a:solidFill>
                <a:latin typeface="Tahoma"/>
              </a:rPr>
              <a:t>)).</a:t>
            </a:r>
            <a:br>
              <a:rPr sz="2400"/>
            </a:br>
            <a:r>
              <a:rPr b="1" lang="fa-IR" sz="2400" spc="-1" strike="noStrike">
                <a:solidFill>
                  <a:srgbClr val="ffffff"/>
                </a:solidFill>
                <a:latin typeface="Tahoma"/>
              </a:rPr>
              <a:t>در روايـات ديـگـر آمـده اسـت كـه پـيـامـبر اكرم (ص ) فرمود: حسن و حسين را به نام فرزندان هـارون نـامـيدم , او فرزندانش را ((شبر)) و ((شبير)) ناميد و من فرزندانم را به همان نام (به لفظ عربى ) حسن وحسين ناميدم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علاقه جبرئيل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روايـات آمـده اسـت روزى حـسـن و حـسـيـن , در كودكى , پيش روى پيامبر (ص ) با يكديگر كـشـتى مى گرفتند و پيامبر دائما حسن را تشويق مى كرد فاطمه رو به پدر كرد و عرض كرد: اى رسـول خـدا! شـمـاحـسـن را كـه بـرادر بزرگتر است در مقابل حسين كه كوچكتر است تشويق مى كنيد؟ </a:t>
            </a:r>
            <a:br>
              <a:rPr sz="3200"/>
            </a:br>
            <a:r>
              <a:rPr b="0" lang="fa-IR" sz="3200" spc="-1" strike="noStrike">
                <a:solidFill>
                  <a:srgbClr val="ffffff"/>
                </a:solidFill>
                <a:latin typeface="Tahoma"/>
              </a:rPr>
              <a:t>پيامبر فرمود: زيراجبرئيل شاهد اين ماجرا بود و حسين را تشويق مى كرد و من حسن ر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هرورزى پيامبر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0" y="1296720"/>
            <a:ext cx="9144000" cy="5877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ـهـر و مـحبت پيامبر به امام حسين و برادر بزرگوارش امام حسن زبانزد عام و خاص بوده است گـذشـتـه از گفتارى كه نقل شد, از رفتار حضرت با ايشان حكايات فراوانى نقل كرده اند كه اين نكته به خوبى معلوم مى شود.</a:t>
            </a:r>
            <a:br>
              <a:rPr sz="2000"/>
            </a:br>
            <a:r>
              <a:rPr b="1" lang="fa-IR" sz="2000" spc="-1" strike="noStrike">
                <a:solidFill>
                  <a:srgbClr val="ffffff"/>
                </a:solidFill>
                <a:latin typeface="Tahoma"/>
              </a:rPr>
              <a:t>نـقل شده است كه گاه در هنگام نماز جماعت , حسن و حسين , كه كودكانى خردسال بودند, نزد جـدبـزرگـوارشـان مـى رفـتند و در سجده بر دوش آن حضرت سوار مى شدند برخى از اصحاب پـيش دستى مى كردند تا كودكان را از رسول خدا دور كنند, ولى آن حضرت اشاره مى فرمودند كه آنـهـا را بـه حـال خـودواگذاريد سپس به آرامى دست آنها را مى گرفتند و پايين مى آوردند و بر زانوان خويش مى نشاندند.</a:t>
            </a:r>
            <a:br>
              <a:rPr sz="2000"/>
            </a:br>
            <a:r>
              <a:rPr b="1" lang="fa-IR" sz="2000" spc="-1" strike="noStrike">
                <a:solidFill>
                  <a:srgbClr val="ffffff"/>
                </a:solidFill>
                <a:latin typeface="Tahoma"/>
              </a:rPr>
              <a:t>روزى پـيامبر سجده نماز را, بر خلاف معمول , طولانى كرد نماز كه تمام شد, نمازگزاران عرض كـردنـد:امـروز سـجـده را طولانى تر به جاى آوريد, آيا وحى نازل شده و دستورى رسيده است ؟ </a:t>
            </a:r>
            <a:br>
              <a:rPr sz="2000"/>
            </a:br>
            <a:r>
              <a:rPr b="1" lang="fa-IR" sz="2000" spc="-1" strike="noStrike">
                <a:solidFill>
                  <a:srgbClr val="ffffff"/>
                </a:solidFill>
                <a:latin typeface="Tahoma"/>
              </a:rPr>
              <a:t>فـرمود: خير,فرزندم حسين بر شانه ام سوار بود, خواستم صبر كنم تا او كار خويش را انجام دهد و لذتش را از بين نبرده باشم.</a:t>
            </a:r>
            <a:br>
              <a:rPr sz="2000"/>
            </a:br>
            <a:r>
              <a:rPr b="1" lang="fa-IR" sz="2000" spc="-1" strike="noStrike">
                <a:solidFill>
                  <a:srgbClr val="ffffff"/>
                </a:solidFill>
                <a:latin typeface="Tahoma"/>
              </a:rPr>
              <a:t>عـمـر بـن خـطـاب نـقل مى كند كه روزى رسول خدا را ديدم كه حسن و حسين را بر شانه هاى خـويـش سـوار كرده بود رو به آن دو كردم و گفتم : چه اسب خوبى داريد!! پيامبر (ص ) فرمود: و اينها چه سواركاران خوبى هستند!.</a:t>
            </a:r>
            <a:br>
              <a:rPr sz="2000"/>
            </a:br>
            <a:r>
              <a:rPr b="1" lang="fa-IR" sz="2000" spc="-1" strike="noStrike">
                <a:solidFill>
                  <a:srgbClr val="ffffff"/>
                </a:solidFill>
                <a:latin typeface="Tahoma"/>
              </a:rPr>
              <a:t>ابـى بـريده نقل مى كند كه روزى رسول خدا(ص ) در مسجد براى ما خطبه مى خواند كه ناگهان حسن وحسين به مجلس وارد شدند و پيراهن قرمز رنگ به تن داشتند, به طورى كه در هنگام راه يـافتن بر زمين مى كشيد پيامبر از منبر پايين آمدند و آن دو را بغل كردند و جلوى خويش نشاندند سـپـس فرمودند: خداو رسولش راست گفتند كه : انما اموالكم و اولادكم فتنه اين دو فرزندم كه چنين راه مى روند آن چنان مشعوف شدم كه نتوانستم به سخنانم ادامه ده.</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92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گريه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ـيـامـبـر اكـرم (ص ) از در خانه فاطمه (س ) مى گذشت صداى گريه امام حسين (ص ) را شنيد فـرمـود:دخـترم ! فرزندم حسين را ساكت كن , مگر نمى دانى كه صداى گريه اين كودك مرا آزار مى ده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86000"/>
          </a:bodyPr>
          <a:p>
            <a:pPr marL="294840" indent="-2948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حسين بهترين است</a:t>
            </a:r>
            <a:r>
              <a:rPr b="1" lang="fa-IR" sz="2000" spc="-1" strike="noStrike">
                <a:solidFill>
                  <a:srgbClr val="ffffff"/>
                </a:solidFill>
                <a:latin typeface="Tahoma"/>
              </a:rPr>
              <a:t> </a:t>
            </a:r>
            <a:endParaRPr b="0" lang="en-US" sz="2000" spc="-1" strike="noStrike">
              <a:solidFill>
                <a:srgbClr val="ffffff"/>
              </a:solidFill>
              <a:latin typeface="Tahoma"/>
            </a:endParaRPr>
          </a:p>
          <a:p>
            <a:pPr marL="2948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4840" indent="-294840" algn="r" rtl="1">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Tahoma"/>
              </a:rPr>
              <a:t>حـذيـفـه يمان مى گويد: روزى پيامبر اكرم (ص ) وارد مسجد شد امام حسين (ص ) را روى دوش گـرفـتـه بادست هاى مباركش پاهاى او را به سينه مى فشرد فرمود: اى مردم مى دانم درباره چه مـوضوعى اختلاف داريد (منظورش بهترين هاى بعد از خودش بود اين حسين بن على (ص ) كسى اسـت كـه بـهـتـريـن جده (مادر بزرگ ) را دارد, جدش محمد, رسول خدا(ص ), سالار پيامبران و جده اش خديجه , دختر خويلد,اولين زنى است كه به خدا و رسولش ايمان آورد اين حسين بن على بـهـتـرين پدر و مادر را دارد, پدرش على بن ابيطالب برادر, وزير و پسر عموى رسول خدا و اولين مردى است كه به خدا و رسولش ايمان آورد و مادرش فاطمه دختر محمد بانوى زنان جهان است ايـن حـسين بن على بهترين عمو و عمه رادارد, عمويش جعفر بن ابيطالب است كه خدايش با دو بـال زيـنت داده تا در بهشت به هر جا كه خواهدپرواز كند و عمه اش , ام هانى دختر ابيطالب است ايـن حـسـيـن بن على (ص ) بهترين دايى و خاله را دارد,دايى اش قاسم پسر رسول خدا و خاله اش زينب , دختر رسول خداست , آن گاه كودك را از شانه خود برزمين نهاد تا در پيش رويش به بازى بـپـردازد و فـرمـود: مردم اين حسين , جد و جده اش در بهشت اند, دايى و خاله اش در بهشت اند و خودش و برادرش نيز در بهشت اند</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716360" y="259920"/>
            <a:ext cx="3600720" cy="10796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تطهير</a:t>
            </a:r>
            <a:endParaRPr b="0" lang="en-US" sz="4400" spc="-1" strike="noStrike">
              <a:solidFill>
                <a:srgbClr val="ffffff"/>
              </a:solidFill>
              <a:latin typeface="Tahoma"/>
            </a:endParaRPr>
          </a:p>
        </p:txBody>
      </p:sp>
      <p:sp>
        <p:nvSpPr>
          <p:cNvPr id="98"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Tahoma"/>
              </a:rPr>
              <a:t>ام سـلـمـه , زن بـا وفـاى </a:t>
            </a:r>
            <a:r>
              <a:rPr b="1" lang="fa-IR" sz="2000" spc="-1" strike="noStrike">
                <a:solidFill>
                  <a:srgbClr val="ffffff"/>
                </a:solidFill>
                <a:latin typeface="Tahoma"/>
              </a:rPr>
              <a:t>رسـول خـدا(ص ) نـقل مى كند كه روزى فاطمه (س ) غذايى براى پدر بـزرگوارش آورد آن روز پيامبر در خانه من بود رسول اللّه نسبت به دخترش احترام كرد و فرمود: برو و پسر عمويم على و فرزندانم حسن و حسين را نيز دعوت كن تا با هم غذا بخوريم پس از مدتى فـاطمه و على در حالى كه دستان حسن و حسين را در دست داشتند, بر پيامبر وارد شدند همان دم جبرئيل بر پيامبر نازل شد وآيه شريفه تطهير را نازل فرمود: انما يريد اللّه ليذهب عنكم الرجس اهـل الـبـيت و يطهركم تطهيرا (احزاب / </a:t>
            </a:r>
            <a:r>
              <a:rPr b="1" lang="fa-IR" sz="2000" spc="-1" strike="noStrike">
                <a:solidFill>
                  <a:srgbClr val="ffffff"/>
                </a:solidFill>
                <a:latin typeface="Tahoma"/>
              </a:rPr>
              <a:t>33</a:t>
            </a:r>
            <a:r>
              <a:rPr b="1" lang="fa-IR" sz="2000" spc="-1" strike="noStrike">
                <a:solidFill>
                  <a:srgbClr val="ffffff"/>
                </a:solidFill>
                <a:latin typeface="Tahoma"/>
              </a:rPr>
              <a:t>) يعنى : خداوند اراده كرده است تا هرگونه زشتى و پليدى را از شما اهل بيت دور گرداند و شما راپاك و پاكيزه گرداند.</a:t>
            </a:r>
            <a:br>
              <a:rPr sz="2000"/>
            </a:br>
            <a:r>
              <a:rPr b="1" lang="fa-IR" sz="2000" spc="-1" strike="noStrike">
                <a:solidFill>
                  <a:srgbClr val="ffffff"/>
                </a:solidFill>
                <a:latin typeface="Tahoma"/>
              </a:rPr>
              <a:t>حـضرت رو به من [ام سلمه ] كرد و فرمود: كساى خيبرى را, كه عبايى بزرگ بود, بياورم على (ع ) رادر طـرف راسـت و زهـرا را در طرف چپ و حسن و حسين را بر پاى مباركش نشاند و كسا را بر آنـهـاانداخت با دست چپ , عبا را سخت بر هم پيچيد و دست راست را به طرف آسمان بلند كرد و سه بارفرمود:.</a:t>
            </a:r>
            <a:br>
              <a:rPr sz="2000"/>
            </a:br>
            <a:r>
              <a:rPr b="1" lang="fa-IR" sz="2000" spc="-1" strike="noStrike">
                <a:solidFill>
                  <a:srgbClr val="ffffff"/>
                </a:solidFill>
                <a:latin typeface="Tahoma"/>
              </a:rPr>
              <a:t>اللهم هؤلا اهل بيتى و حامتى , اللهم اذهب عنهم الرجس و طهرهم تطهيرا, انا حرب لمن حاربتم و سلم لمن سالمتم و عدو لمن عاداكم ,.</a:t>
            </a:r>
            <a:br>
              <a:rPr sz="2000"/>
            </a:br>
            <a:r>
              <a:rPr b="1" lang="fa-IR" sz="2000" spc="-1" strike="noStrike">
                <a:solidFill>
                  <a:srgbClr val="ffffff"/>
                </a:solidFill>
                <a:latin typeface="Tahoma"/>
              </a:rPr>
              <a:t>خداوندا! اينان اهل بيت و خاندان من هستند, [چنان كه وعده فرمودى ] پليدى را ازايشان دور دار و آنان را پاك و معصوم دار, من مى جنگم با كسى كه شما [اهل بيت ] با اوبجنگيد, و آشتى مى كنم با كسى كه شما آشتى كنيد و دشمن كسى هستم كه با شما دشمنى كند .</a:t>
            </a:r>
            <a:br>
              <a:rPr sz="2000"/>
            </a:br>
            <a:br>
              <a:rPr sz="2000"/>
            </a:br>
            <a:r>
              <a:rPr b="1"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8:08:05Z</dcterms:created>
  <dc:creator>ali</dc:creator>
  <dc:description/>
  <dc:language>en-US</dc:language>
  <cp:lastModifiedBy>ali</cp:lastModifiedBy>
  <dcterms:modified xsi:type="dcterms:W3CDTF">2007-05-30T23:03:31Z</dcterms:modified>
  <cp:revision>10</cp:revision>
  <dc:subject/>
  <dc:title>Slide 1</dc:title>
</cp:coreProperties>
</file>